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CC3-D581-41B2-88E8-DC6FD340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542120" cy="34070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82720" y="4338360"/>
            <a:ext cx="5076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 Architectural Iss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ns of thousands of users instead of hundreds, 24x7 not 9-to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redictable open Internet replaces the safety of the 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curity and load balancing between multipl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aging diverse user profiles and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volume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viding scalable services to diverse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service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asuring and billing for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542120" cy="3407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82720" y="4338360"/>
            <a:ext cx="5076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 Architectural Iss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ns of thousands of users instead of hundreds, 24x7 not 9-to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redictable open Internet replaces the safety of the 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curity and load balancing between multipl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aging diverse user profiles and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volume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viding scalable services to diverse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service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asuring and billing for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702-936E-49DF-BAB4-B6EE7C76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3DC-37E6-47FC-839D-3B53DC0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75E-9733-4B73-9EFF-469C1136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485-E4A8-4F5B-A543-B63035A4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7AC-88A1-481D-B932-624D630E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A82-FF35-4B4B-9D85-CC4383CF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730-81BA-4886-B866-527E2B37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B0D-E506-48BB-B422-1F2203F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A05-2247-4C9F-B9F4-5784844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75F-EEC6-4C32-BA23-506FA48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C1D-18A3-41FD-A047-C7772A8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9CA-649E-4202-B234-26D11F2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(A. Umar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74C-B97E-4A9D-9BBD-7A476C06E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3048120"/>
            <a:ext cx="7315200" cy="281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0520" y="3276720"/>
            <a:ext cx="516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Application Concept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usiness View of Applic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Architectures Using SO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B, B2E,B2B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1619280" cy="13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0480" y="1295280"/>
            <a:ext cx="90018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Applications and Enterpr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Archite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6248160" y="1219320"/>
            <a:ext cx="75960" cy="541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Level  EB Archite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532520" y="3248640"/>
            <a:ext cx="3733560" cy="588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048120"/>
            <a:ext cx="849240" cy="503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133720"/>
            <a:ext cx="914400" cy="53316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323080" y="3009600"/>
            <a:ext cx="3733560" cy="1066680"/>
          </a:xfrm>
          <a:prstGeom prst="rtTriangl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6280" y="15987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Resourc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124080"/>
            <a:ext cx="21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ding Partner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723960" y="3009600"/>
            <a:ext cx="3733560" cy="1066680"/>
          </a:xfrm>
          <a:prstGeom prst="rtTriangl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nt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5181480"/>
            <a:ext cx="619200" cy="503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1000" y="4191120"/>
            <a:ext cx="914400" cy="533160"/>
          </a:xfrm>
          <a:prstGeom prst="can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51040" y="444168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927360" cy="60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0176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731880" cy="57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52280" y="4419720"/>
            <a:ext cx="601920" cy="253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38098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41972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8954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80880" y="4800600"/>
            <a:ext cx="38124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8080" y="510552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057400"/>
            <a:ext cx="2057400" cy="152280"/>
          </a:xfrm>
          <a:prstGeom prst="leftRightArrow">
            <a:avLst>
              <a:gd name="adj1" fmla="val 50000"/>
              <a:gd name="adj2" fmla="val 2689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2286000"/>
            <a:ext cx="1066680" cy="152280"/>
          </a:xfrm>
          <a:prstGeom prst="leftRightArrow">
            <a:avLst>
              <a:gd name="adj1" fmla="val 50000"/>
              <a:gd name="adj2" fmla="val 1394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029200"/>
            <a:ext cx="1218960" cy="152280"/>
          </a:xfrm>
          <a:prstGeom prst="leftRightArrow">
            <a:avLst>
              <a:gd name="adj1" fmla="val 50000"/>
              <a:gd name="adj2" fmla="val 15935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4495680"/>
            <a:ext cx="609840" cy="152640"/>
          </a:xfrm>
          <a:prstGeom prst="leftRightArrow">
            <a:avLst>
              <a:gd name="adj1" fmla="val 50000"/>
              <a:gd name="adj2" fmla="val 795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5410080"/>
            <a:ext cx="609480" cy="152640"/>
          </a:xfrm>
          <a:prstGeom prst="leftRightArrow">
            <a:avLst>
              <a:gd name="adj1" fmla="val 50000"/>
              <a:gd name="adj2" fmla="val 794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58276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6600" y="5942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5440" y="60944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52480" y="1219320"/>
            <a:ext cx="76320" cy="541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omation Strategies: BR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uy, Rent, Outsource, Develop, Exte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5400" y="1828800"/>
            <a:ext cx="90486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App Architectures – Conceptual Vi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App Architectures based on SO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usin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20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Information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673280"/>
            <a:ext cx="72388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Purch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01028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2E – ERP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4762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1219320"/>
            <a:ext cx="26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RPs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e app,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s pacakg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2B Apps - Direct  (Supply Chai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229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2B – Indirect (eMark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3059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PROCESSES AND BUSINES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Business Processes (BPs): Activities to support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ing creditors, creating financial statements, managing cash accounts, Hiring employees, paying employees, evaluating performance, enrolling employees in benefits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usiness Appl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uterized BPs (CB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ccounts payable system, payroll system, accoun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D – Data Wareho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033560"/>
            <a:ext cx="82296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ourcing through App Service Providers (AS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8483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 – Conceptual Mod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687680"/>
            <a:ext cx="80769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ACCESS TO WEB ON THE G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ywhere, any time, man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MOBILE COMMERCE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(m-commerce) and voice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MEBAs (M-Portal, M-CRM, M-SC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ositional commerce and Location-base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ireless senso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RFI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319880" y="0"/>
          <a:ext cx="18241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9880" y="0"/>
                    <a:ext cx="1824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1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al and Voice Comme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903240"/>
            <a:ext cx="77724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Level  Mobile  Archite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048120"/>
            <a:ext cx="849600" cy="503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133720"/>
            <a:ext cx="914400" cy="53316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7000" y="16747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Resourc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58960" y="3200400"/>
            <a:ext cx="19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ding Part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53280" y="5181480"/>
            <a:ext cx="619200" cy="503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4191120"/>
            <a:ext cx="914400" cy="533160"/>
          </a:xfrm>
          <a:prstGeom prst="can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8400" y="451800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92736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01760" cy="50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731880" cy="57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52280" y="4419720"/>
            <a:ext cx="601920" cy="253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38098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441972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895480"/>
            <a:ext cx="1219320" cy="152640"/>
          </a:xfrm>
          <a:prstGeom prst="leftRightArrow">
            <a:avLst>
              <a:gd name="adj1" fmla="val 50000"/>
              <a:gd name="adj2" fmla="val 1590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80880" y="4800600"/>
            <a:ext cx="381240" cy="743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10552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057400"/>
            <a:ext cx="2057400" cy="152280"/>
          </a:xfrm>
          <a:prstGeom prst="leftRightArrow">
            <a:avLst>
              <a:gd name="adj1" fmla="val 50000"/>
              <a:gd name="adj2" fmla="val 2689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2286000"/>
            <a:ext cx="1067040" cy="152280"/>
          </a:xfrm>
          <a:prstGeom prst="leftRightArrow">
            <a:avLst>
              <a:gd name="adj1" fmla="val 50000"/>
              <a:gd name="adj2" fmla="val 13949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276720"/>
            <a:ext cx="1066680" cy="152280"/>
          </a:xfrm>
          <a:prstGeom prst="leftRightArrow">
            <a:avLst>
              <a:gd name="adj1" fmla="val 50000"/>
              <a:gd name="adj2" fmla="val 1394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5029200"/>
            <a:ext cx="1066680" cy="152280"/>
          </a:xfrm>
          <a:prstGeom prst="leftRightArrow">
            <a:avLst>
              <a:gd name="adj1" fmla="val 50000"/>
              <a:gd name="adj2" fmla="val 1394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4495680"/>
            <a:ext cx="609840" cy="152640"/>
          </a:xfrm>
          <a:prstGeom prst="leftRightArrow">
            <a:avLst>
              <a:gd name="adj1" fmla="val 50000"/>
              <a:gd name="adj2" fmla="val 795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5410080"/>
            <a:ext cx="609480" cy="152640"/>
          </a:xfrm>
          <a:prstGeom prst="leftRightArrow">
            <a:avLst>
              <a:gd name="adj1" fmla="val 50000"/>
              <a:gd name="adj2" fmla="val 794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3080" y="57135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Serve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0" y="1295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Client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456560" y="3248640"/>
            <a:ext cx="3733560" cy="588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rot="5400000">
            <a:off x="2247840" y="3009240"/>
            <a:ext cx="3733560" cy="1067040"/>
          </a:xfrm>
          <a:prstGeom prst="rtTriangl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647640" y="3009240"/>
            <a:ext cx="3733560" cy="1067040"/>
          </a:xfrm>
          <a:prstGeom prst="rtTriangl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nt-end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0040" y="230040"/>
            <a:ext cx="822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ENTERPRISE APPLICATION FRAME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applications are at the core of the modern digital corporations because these applications automate the business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erprise application architecture shows the main applications of an enterprise, what they do, and how they interact and interface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erprise application pattern is a good first step towards an enterprise applicatio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business application = enterprise application at the time of this writing because most organizations have adopted ebusi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enterprise applications span C2B as well as B2B operations. For example, many online purchasing systems support several suppliers who can handle backord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the applications differ from each other, several common attributes and patterns can be f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applications can be classified in terms of common applications (e.g., human resources, CRMs) versus industry specific (e.g., hospital information system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prise Apps in SO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048120"/>
          <a:ext cx="7543800" cy="35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8120"/>
                    <a:ext cx="7543800" cy="35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3520" y="9907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 provides a good framework for enterprise application integ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figure shows a conceptual view of application architecture based on SO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 to Build an Enterprise Application Architecture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business process pattern (BPP) that represents the enterpris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the  BPP to an enterprise application pattern (EAP) by deciding what business processes will be automated, which ones will be outsourced (see automa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applications to reusable business components (business applications) that can be bought, rented, or develop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an ESB that interconnects the business components for an SOA vi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Process Pattern of a Retail Sto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52280" y="898560"/>
            <a:ext cx="8991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Application Pattern of a Retail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2296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2120" y="533520"/>
          <a:ext cx="7391160" cy="5817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39116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52040" y="24300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Applications: An eBuisness View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9907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1720" y="1066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00:58:18Z</dcterms:created>
  <dc:creator>umar</dc:creator>
  <dc:description/>
  <dc:language>en-US</dc:language>
  <cp:lastModifiedBy>aumar</cp:lastModifiedBy>
  <cp:lastPrinted>2001-12-06T22:27:12Z</cp:lastPrinted>
  <dcterms:modified xsi:type="dcterms:W3CDTF">2009-07-20T03:37:23Z</dcterms:modified>
  <cp:revision>228</cp:revision>
  <dc:subject/>
  <dc:title>No Slide Title</dc:title>
</cp:coreProperties>
</file>