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0B1-71E6-475D-A144-9A6B4551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CC2-C101-4D92-BB82-82AA488D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B02-AC49-4DEC-A2FF-841CE310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712-A3DC-43F0-ACC8-84B60CD4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20E-C3DB-4245-8BDB-A14BCABC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193-C60C-4C3B-AAD8-FF2DEA25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901-C0C5-4801-8778-3B31D6A9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15E-7C8C-4AD0-92F2-3750EE0C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3B2-3C3D-4346-80EA-2089DBBC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AB1-EAC3-412A-8BDD-3A20FAA3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AA3-42ED-4ED5-B977-66783A58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786-2F53-4A27-B050-5C6778C8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: A. Um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C489-8DD8-4AF2-892D-BA4E9D9C3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534520" cy="342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engineering Methodolog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use, Migration and Warehousing Strategies  based on Cost, Performance &amp; Security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Warehousing Stratg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5438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ESB for Data Ware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99172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-Benefi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ntitative Cost/Benefit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8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8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2240" y="726480"/>
            <a:ext cx="7476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A: Estimating  Reengineering Time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with the benefit of status quo and reenginee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= (P3 – P1- P2) * T1 = MS *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R = (P6 –P4 - P5) * (T1 –T2) –  P7*P8 + (P3 – P1- P2) * T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R * (T1 – T2) – TC + MS *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’ = Benefit with changes = BenefitS  –  N*C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R’ = Benefit with changes = BenefitR  –  N*C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ifitRS’ = Benefit of reengineering versus status qu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enefitR’ – BenefitS’ =  BenefitR – BenefitS + MC    ………  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BenefitRS’ = 0  in equation (6) g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= BenefitR + MC    ………… (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ituting the values for BenefitS and BenefitR in equation 7, we get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S * T1 = MR * (T1 –T2) –  TC + MS * T2  +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ganizing the formula we g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2 (MR-MS) = (MR-MS)T1-TC+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2=[(MR-MS)T1-TC+MC)]/(MR-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 we g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 =  T1 -  TC/(MR-MS) + MC/(MR-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2 =  T1 -  (TC –MC)/(MR-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76640" y="2520"/>
            <a:ext cx="867852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B). High Level Cost-Benefit Analysis for Integration an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parameters can be used to quantify cost/benefit analys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: Current annual maintenanc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: Current annual operations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: Current annual business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: Predicted annual maintenance cost after integ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: Predicted annual operation cost after integ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: Predicted annual business value after integ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7: Estimated integration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8: Integration risk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9: Predicted annual maintenance cost after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0: Predicted annual operations cost after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1: Predicted annual business value after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2: Estimated migration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3: Migration risk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: Expected life of the system  (time between S0 to Sf 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: Estimated integration calendar time (time between S0 to S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: Estimated migration calendar time (time between S0 to S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nefit of maintaining the status quo is given b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= [R3 – (R1+R2)] * T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nefit of integration is similarly given b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nefitI = [R6 –  (R4+R5)] * (T1 –T2) –  (R7*R8) + [R3 – (R1+R2)] *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nefit of migrating the system is given b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nefitM = [R11 - (R9+R10)] * (T1 –T3) - (R12*R13) + [R3 – (R1+R2)] 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tion cost estima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58720" y="11628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amples of Security Issues for different types of SOA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533520"/>
          <a:ext cx="8686800" cy="644832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84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111111"/>
                          </a:solidFill>
                          <a:latin typeface="Times New Roman"/>
                          <a:ea typeface="Times New Roman"/>
                        </a:rPr>
                        <a:t>Resource Typ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111111"/>
                          </a:solidFill>
                          <a:latin typeface="Times New Roman"/>
                          <a:ea typeface="Times New Roman"/>
                        </a:rPr>
                        <a:t>Threat and Vulnerabiliti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111111"/>
                          </a:solidFill>
                          <a:latin typeface="Times New Roman"/>
                          <a:ea typeface="Times New Roman"/>
                        </a:rPr>
                        <a:t>Suggested Security Measur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111111"/>
                          </a:solidFill>
                          <a:latin typeface="Times New Roman"/>
                          <a:ea typeface="Times New Roman"/>
                        </a:rPr>
                        <a:t>Enterprise Service Bus(ESB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111111"/>
                          </a:solidFill>
                          <a:latin typeface="Times New Roman"/>
                          <a:ea typeface="Times New Roman"/>
                        </a:rPr>
                        <a:t>Many attacks can be launched on the ESB platform (e.g., denial of service attack, corrupt the output produced by the ESB so that it produces erroneous outputs)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111111"/>
                          </a:solidFill>
                          <a:latin typeface="Times New Roman"/>
                          <a:ea typeface="Times New Roman"/>
                        </a:rPr>
                        <a:t>Protect ESB hubs with IDs/PWs so that others cannot tamper with i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111111"/>
                          </a:solidFill>
                          <a:latin typeface="Times New Roman"/>
                          <a:ea typeface="Times New Roman"/>
                        </a:rPr>
                        <a:t>SOA Gatewa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111111"/>
                          </a:solidFill>
                          <a:latin typeface="Times New Roman"/>
                          <a:ea typeface="Times New Roman"/>
                        </a:rPr>
                        <a:t>An intruder can launch a denial of service attack on the SOA gateway, eavesdrop or corrupt the output produced by the gatewa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111111"/>
                          </a:solidFill>
                          <a:latin typeface="Times New Roman"/>
                          <a:ea typeface="Times New Roman"/>
                        </a:rPr>
                        <a:t>Protect the SOA gateway with IDs/PWs so that others cannot tamper with i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11111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111111"/>
                          </a:solidFill>
                          <a:latin typeface="Times New Roman"/>
                          <a:ea typeface="Times New Roman"/>
                        </a:rPr>
                        <a:t>Adapter (Marketing Research - Backend Application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111111"/>
                          </a:solidFill>
                          <a:latin typeface="Times New Roman"/>
                          <a:ea typeface="Times New Roman"/>
                        </a:rPr>
                        <a:t>An intruder can launch a denial of service attack on the adapter or can corrupt the output produced by the adapter so that it accesses a different datab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111111"/>
                          </a:solidFill>
                          <a:latin typeface="Times New Roman"/>
                          <a:ea typeface="Times New Roman"/>
                        </a:rPr>
                        <a:t>Protect ODBC adapter with IDs/PWs so that others cannot tamper with i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0" y="532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Est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ongestion and queuing delays due to integration busses (hubs) can be estimated by using the Little’s formula from queuing the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=U/1-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………….…..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ueue length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utilization. To kee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all, U must be less than 0.7. U is given b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λμ                                                                                        …………..… (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λ =  arrival rate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service time defined above. To determine the impact of integration on queuing, we need to determine an increase in utiliz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integration overhead by using equation 3 (now this equation can be used to capture the overheads due to registry lookup, routing, brokering and other processes performed in the bus):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 = λi.  μ j (1+ O 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……………. (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6 indicates the utiliz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hub based on the arrival r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λi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hub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hub between the applications could become a performance bottleneck if many applications interact heavily with each other, i.e.,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λi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high. If the utilization U goes above 70% (i.e., U &gt; 0.7) then another server license may be needed. It is good to calculate the U of the hub by placing it on different machines (server, mainframe, etc) because different machines have different service tim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μ 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  In short, equation 6 can be used to quickly estimate how many servers licenses for an ESB are nee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0"/>
            <a:ext cx="601992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siness Problem Explo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mpose a Large Integration Project  L Into Integ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s (P1, P2, ,, Pn) and  pick an Integration Plan 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676520"/>
            <a:ext cx="58672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ion Requirement 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 requirements of the integration Plan 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819520"/>
            <a:ext cx="60199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 of Integrated Architectu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an Architecture that captures the complexity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 and  translates complexity into SOA  fea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5943600"/>
            <a:ext cx="61722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olidation of Resul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idate the results from (P1, P2, ,, Pn) into an Over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Integration Project Plan L with gap analysi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486400"/>
            <a:ext cx="396252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91520" y="762120"/>
            <a:ext cx="228600" cy="48765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68580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1219320"/>
            <a:ext cx="304920" cy="457200"/>
          </a:xfrm>
          <a:prstGeom prst="downArrow">
            <a:avLst>
              <a:gd name="adj1" fmla="val 50000"/>
              <a:gd name="adj2" fmla="val 60913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438280"/>
            <a:ext cx="304560" cy="457200"/>
          </a:xfrm>
          <a:prstGeom prst="downArrow">
            <a:avLst>
              <a:gd name="adj1" fmla="val 50000"/>
              <a:gd name="adj2" fmla="val 6098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5334120"/>
            <a:ext cx="304920" cy="609480"/>
          </a:xfrm>
          <a:prstGeom prst="downArrow">
            <a:avLst>
              <a:gd name="adj1" fmla="val 50000"/>
              <a:gd name="adj2" fmla="val 81202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1080" y="556272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ore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267080"/>
            <a:ext cx="601992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 and Evaluation of Integrated Sol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e architecture into solutions and  evaluat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s for cost, security, performance and RO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3886200"/>
            <a:ext cx="304920" cy="457200"/>
          </a:xfrm>
          <a:prstGeom prst="downArrow">
            <a:avLst>
              <a:gd name="adj1" fmla="val 50000"/>
              <a:gd name="adj2" fmla="val 60913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75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ution Evaluations based on Cost, Performance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762120"/>
          <a:ext cx="9143640" cy="5906880"/>
        </p:xfrm>
        <a:graphic>
          <a:graphicData uri="http://schemas.openxmlformats.org/drawingml/2006/table">
            <a:tbl>
              <a:tblPr/>
              <a:tblGrid>
                <a:gridCol w="1469520"/>
                <a:gridCol w="2057760"/>
                <a:gridCol w="2005200"/>
                <a:gridCol w="1904760"/>
                <a:gridCol w="170640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hoice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imated Costs ($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erformanc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ecurity Issue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men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use and Integra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$120K  (it is relatively cheaper to install an ESB and adapters)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 seconds. (adapters introduce delay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B &amp; adapters may be targets for attacks &amp; need to be secured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y need to migrate in fut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grate  and replace with an ER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$500K million (it is expensive to completely replace a system with an ERP system)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 second (no adapters are needed, hopefully, for an integrated ERP system )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ecurity can be designed for the new system from scratc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grations are typically expensive and require staff training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ata Warehou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$200K (it is expensive to convert data and construct a data warehous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0.7 seconds (data level access is usually faster due to no overhead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TL needs to be protected, data level access needs protec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ata warehouses create duplicate data that needs to be synchronized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0" y="5035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00200" y="2209680"/>
            <a:ext cx="807732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572000"/>
            <a:ext cx="769608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4771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609480" y="228600"/>
            <a:ext cx="7696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rategi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Approa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trategic Analysis based on Business Valu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Value, Flexibility, Growth 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2209680"/>
            <a:ext cx="82296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chitectur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st-Benefit Approa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angible Analysis based on Business Valu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Value, Flexibility, Growth, Query Requirement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Curr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380880" y="43434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olutio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st-Benefit Approa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angible Cost-Benefit Analysis based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and Maintenance Costs, Business Value, Change Cos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5800" y="1523880"/>
            <a:ext cx="54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in Deci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tion, Migration or Status Q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62480" y="3962520"/>
            <a:ext cx="53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in Deci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ype of Integration and Migr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Oriented Architecture Sk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43520" y="5942160"/>
            <a:ext cx="46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in Deci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tailed cost estimat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 specifica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144792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809880"/>
            <a:ext cx="533520" cy="838440"/>
          </a:xfrm>
          <a:prstGeom prst="downArrow">
            <a:avLst>
              <a:gd name="adj1" fmla="val 50000"/>
              <a:gd name="adj2" fmla="val 39288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219320"/>
            <a:ext cx="457200" cy="3657600"/>
          </a:xfrm>
          <a:prstGeom prst="upArrow">
            <a:avLst>
              <a:gd name="adj1" fmla="val 50000"/>
              <a:gd name="adj2" fmla="val 20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6058080"/>
            <a:ext cx="533520" cy="495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6553080"/>
            <a:ext cx="358128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302400" y="3429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it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6294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tion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625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807696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 Gatew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8915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0200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I Platform as a Migration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9040" y="3102120"/>
            <a:ext cx="6615000" cy="67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B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962440" y="1981080"/>
            <a:ext cx="936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19051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1905120"/>
            <a:ext cx="33480" cy="884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280" y="1386000"/>
            <a:ext cx="1482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6840" y="4164120"/>
            <a:ext cx="2261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cy Appl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ing Mig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47800" y="1038240"/>
            <a:ext cx="692280" cy="85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57600" y="1017720"/>
            <a:ext cx="692280" cy="85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81840" y="1054080"/>
            <a:ext cx="692280" cy="85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44640" y="2757600"/>
            <a:ext cx="395280" cy="210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2743200"/>
            <a:ext cx="395280" cy="210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18280" y="2749680"/>
            <a:ext cx="395280" cy="210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4680" y="3813120"/>
            <a:ext cx="395280" cy="21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6800" y="4427640"/>
            <a:ext cx="630000" cy="12128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414600" y="4057200"/>
            <a:ext cx="129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30920" y="3828960"/>
            <a:ext cx="395280" cy="139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92680" y="4443480"/>
            <a:ext cx="630360" cy="64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100480" y="4073400"/>
            <a:ext cx="1296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75040" y="5084640"/>
            <a:ext cx="67968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95960" y="3841920"/>
            <a:ext cx="395280" cy="210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7327800" y="4110120"/>
            <a:ext cx="129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4572000"/>
            <a:ext cx="877680" cy="95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75160" y="562464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g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egacy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3800" y="5591160"/>
            <a:ext cx="128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g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ar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g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26240" y="5565600"/>
            <a:ext cx="128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g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g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040" y="5408640"/>
            <a:ext cx="346320" cy="22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5640" y="533880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7:52:12Z</dcterms:created>
  <dc:creator>CBA</dc:creator>
  <dc:description/>
  <dc:language>en-US</dc:language>
  <cp:lastModifiedBy>aumar</cp:lastModifiedBy>
  <dcterms:modified xsi:type="dcterms:W3CDTF">2009-07-22T01:22:09Z</dcterms:modified>
  <cp:revision>118</cp:revision>
  <dc:subject/>
  <dc:title>Supply Chain Management</dc:title>
</cp:coreProperties>
</file>