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5E43-5E8F-4A84-891D-FAA836725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39FA-9EC0-46A6-A3B0-B68664B8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132A-0A75-4D5D-B62F-8E965C575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03BA-7291-40FA-970A-6C85D7FEA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7B2A-E51A-4576-A845-62F46B5B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C188-F7C1-4612-AB7D-9A842E48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AC96-64AF-48CE-AFE9-3A00F5E5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1A31-C02E-4741-8544-5B36F51F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2238-AB14-4619-93E8-F859A9C7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1A78-7EA7-4ED6-A282-CF57750A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D1AF-E02F-40F9-AEDF-A38F71D7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A2C6-3887-4C49-9A03-227893FA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(A. Umar)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082B-00FC-4707-AA8F-1FFF51F74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zifa.com/" TargetMode="External"/><Relationship Id="rId2" Type="http://schemas.openxmlformats.org/officeDocument/2006/relationships/hyperlink" Target="http://www.omg.org/" TargetMode="External"/><Relationship Id="rId3" Type="http://schemas.openxmlformats.org/officeDocument/2006/relationships/hyperlink" Target="http://en.wikipedia.org/wiki/Business_architecture#cite_note-2#cite_note-2" TargetMode="External"/><Relationship Id="rId4" Type="http://schemas.openxmlformats.org/officeDocument/2006/relationships/hyperlink" Target="http://www.opengroup.org/" TargetMode="External"/><Relationship Id="rId5" Type="http://schemas.openxmlformats.org/officeDocument/2006/relationships/hyperlink" Target="http://www.xbml.org/" TargetMode="Externa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469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siness Architectures: Business Strategies,  Processes  and Structur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2438280"/>
            <a:ext cx="6934320" cy="2819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siness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siness Process Modeling and Business Patt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flow Modeling and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tional Desig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USINESS PROCESSES AND BUSINES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47640" y="1085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Business Processes (BPs): Activities to support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Example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ying creditors, creating financial statements, managing cash accounts, Hiring employees, paying employees, evaluating performance, enrolling employees in benefits p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Business Applic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Computerized BPs (CBIS), “enterprise appplications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 payroll system, supply chain  systems, battlefield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30040" y="230040"/>
            <a:ext cx="8226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 MT Extra Bold"/>
              </a:rPr>
              <a:t>TYPES OF BPs and APPLICATION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91520" cy="55432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JOR TYPES OF Business Application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536040" indent="-536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IVE SUPPORT SYSTEMS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(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 SUPPORT SYSTEMS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(D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MENT INFORMATION SYSTEMS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(M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LEDGE WORK SYSTEMS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(KW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 PROCESS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S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(T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>
              <a:spcBef>
                <a:spcPts val="601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Enterprise Systems (Enterprise Resource Planning –ERP) system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69440">
              <a:spcBef>
                <a:spcPts val="499"/>
              </a:spcBef>
              <a:buClr>
                <a:srgbClr val="800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Many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69440">
              <a:spcBef>
                <a:spcPts val="499"/>
              </a:spcBef>
              <a:buClr>
                <a:srgbClr val="800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Integrated around a database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  <p:animClr clrSpc="rgb"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" dur="1" fill="hold"/>
                                  <p:tgtEl>
                                    <p:spTgt spid="7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762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siness Process  Analys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83808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Idea: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business processes (BPs) are needed and wh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esign work and business processes from the ground up instead of simply automating existing task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echnology (IT) to improve the performance of a business and cut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a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planning (focus on busin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process improvement: refinement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PR: assume that existing BP is irrelev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MO (future method of Oper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MO (Present Method of Oper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 Analysi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01040" y="3241800"/>
            <a:ext cx="7048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17080" y="3276720"/>
            <a:ext cx="7048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22200" y="3276720"/>
            <a:ext cx="7048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95480" y="3505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tterns for Business Process Ana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tterns, introduced by Christopher Alexander [Alexander 1977, Alexander 1979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-known format for capturing engineering knowledge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atter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tup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(p, s, e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problem to be solved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solution (what works in practic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n examp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itional information such as diagrams, context, benefits, consequences, and limitations can also be added to a pattern to help the designer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ddition, each pattern is assigned a nam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ain value of a pattern is the solu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at represents the best practice and what works in real life situations. The solu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provided to a designer as a generic solution -- a sketch -- that can be refined and specialized based on the situation, additional inputs, or inferences from other patter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utions in a pattern can depend on previous choices represented by other patterns. The patterns discussed in this document are based on extensive literature reviews and the knowledge of an IT consulting tea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 types of patterns have been introduced (design patterns, architecture patterns, security patterns, 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r interest  at present is in Business Process Patterns that represent common business processes in different industry segments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usiness Process Pattern of a Retail Sto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610840" cy="5168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170400" y="5029200"/>
            <a:ext cx="2757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hows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es and the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an be customiz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siness Process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ethod of efficiently aligning an organization with the wants and needs of cli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istic management approa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motes business effectiveness and efficiency while striving for innovation, flexibility and integration with technolog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s to continuously improve processes - the process to define, measure and improve your processes – a ‘process optimization' pro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urity Models about BPM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:  non exi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: initial/adh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: repeatable but intuit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: Defined process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: Managed and Measur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: Optimis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BPMS (Business Process Management Systems) are commercially avail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Business Process Mode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ypical questions in building a process mod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are the activities that belong to a proce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the sequence in which these activities must be carried ou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some of these activities be carried out in parall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ich organizational units are involv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ich application programs are involved in checking customer inform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kind of data is involv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business rules drive the process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is typical to use flowcharts/directed graphs to develop workflow process model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er systems use UML (Universal Modeling Language) and OO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flow Example of a Claim Processing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76000" y="533520"/>
            <a:ext cx="1803960" cy="58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rt Claim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Create a claim fi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04520" y="1857240"/>
            <a:ext cx="157356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lect Evid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02000" y="4952880"/>
            <a:ext cx="700560" cy="58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ss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73760" y="3962520"/>
            <a:ext cx="948960" cy="58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if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29600" y="6019920"/>
            <a:ext cx="157212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ify rejec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05320" y="231444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1476360"/>
            <a:ext cx="2438280" cy="99072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s claim vali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 Cover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y polic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1171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6920" y="254304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2009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2619360"/>
            <a:ext cx="2210040" cy="83808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im Payabl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00800" y="22384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505320" y="307656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00800" y="34574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25520" y="260496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j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62880" y="153828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79640" y="3505320"/>
            <a:ext cx="9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cep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00800" y="4600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02360" y="5791320"/>
            <a:ext cx="644040" cy="58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5591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24280" y="6200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858000" y="6124680"/>
            <a:ext cx="1676520" cy="4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062200" y="562932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43800" y="4143240"/>
            <a:ext cx="914400" cy="106704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i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495680" y="3152880"/>
            <a:ext cx="1219320" cy="285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924680" y="1628640"/>
            <a:ext cx="327240" cy="685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057400" y="5819760"/>
            <a:ext cx="579600" cy="566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5181480" y="3990960"/>
            <a:ext cx="579600" cy="566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5257800" y="4753080"/>
            <a:ext cx="676440" cy="8715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7772400" y="5791320"/>
            <a:ext cx="263520" cy="645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09480" y="5362560"/>
            <a:ext cx="990720" cy="3049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ared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840" y="4067280"/>
            <a:ext cx="148392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ock Activ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4448160"/>
            <a:ext cx="1143000" cy="83808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2680" y="37339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g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 flipH="1">
            <a:off x="4343040" y="457200"/>
            <a:ext cx="971640" cy="631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858000" y="421956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781680" y="490536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781680" y="513396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391520" y="307656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0120" y="2162160"/>
            <a:ext cx="457200" cy="198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581976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5440" y="5756400"/>
            <a:ext cx="1604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typic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rries messag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838080"/>
            <a:ext cx="3124080" cy="27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ing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Activities/ dec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For each activit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les, input/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les/responsib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ftware/hardw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flow Management Systems (WM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WMS commercially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smaller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 also known as BPR toolk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 modeling of business proc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 f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 ru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late models to solution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loy workflows between existing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nt Trends: XML based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PEL (Business Process Execution Langu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siness architecture elements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80010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 Management System- Conceptual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61084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tional Structures Overview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33520" y="984240"/>
            <a:ext cx="792468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000000"/>
                </a:solidFill>
                <a:latin typeface="Arial"/>
              </a:rPr>
              <a:t>Frameworks for Enterprise Business Architectu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Zachman Information Framework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zifa.com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):  is a well known framework for enterprise architectur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The Object Management Group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omg.org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) has established a Business Architecture Working Group</a:t>
            </a:r>
            <a:r>
              <a:rPr b="0" lang="en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[3]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pen Grou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www.opengroup.or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has developed the Open Group Architecture Framework (TOGAF)  that includes “Business Architecture” as one of the four "domains" of architectur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Xtended Business Modeling Language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" sz="2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www.xbml.org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) is a solid framework for denoting an EBA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siness Strategy and I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1604880"/>
            <a:ext cx="7772400" cy="46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5438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blishing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46748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RTER’S COMPETI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CE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76312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strips dir="ld"/>
      </p:transition>
    </mc:Choice>
    <mc:Fallback>
      <p:transition spd="slow">
        <p:strips dir="ld"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olution of eBus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54380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Strategies -- How to Align IT with Business Need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23924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5438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igning Business With I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Henderson-Venkataraman Mode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2057400"/>
            <a:ext cx="4876920" cy="2971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76720" y="3581280"/>
            <a:ext cx="4724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08040" y="217476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7520" y="388620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90200" y="13366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                         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2057400"/>
            <a:ext cx="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43200" y="2403360"/>
            <a:ext cx="20095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e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61280" y="2251080"/>
            <a:ext cx="11988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3520" y="3809880"/>
            <a:ext cx="18450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78600" y="3774960"/>
            <a:ext cx="18450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95560" y="5448240"/>
            <a:ext cx="654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urce: Henderson, J. and Venkataraman, N., “Strategic Alignment”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M System Journal, Vo. 32, No. 1, 1993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43400" y="3276720"/>
            <a:ext cx="2438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81680" y="335268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0T00:58:18Z</dcterms:created>
  <dc:creator>umar</dc:creator>
  <dc:description/>
  <dc:language>en-US</dc:language>
  <cp:lastModifiedBy>aumar</cp:lastModifiedBy>
  <cp:lastPrinted>2001-12-06T22:27:12Z</cp:lastPrinted>
  <dcterms:modified xsi:type="dcterms:W3CDTF">2009-07-20T00:35:20Z</dcterms:modified>
  <cp:revision>200</cp:revision>
  <dc:subject/>
  <dc:title>No Slide Title</dc:title>
</cp:coreProperties>
</file>