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7693-DB4E-4CEF-A7C8-D9E6FA48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SOA enabled tdoman manag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Multimedia systems (I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a litearture on NG Telecos,  IMS , soa enabled domani manage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C21-5EA9-46C5-B0B9-C2A2E2E5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0EE-6408-43BF-84A5-855C4AF0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BBC-9351-40F0-B624-DCCE0A1A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8C6-708A-4604-8341-BAA37229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689-6F7B-4EDF-8CFA-FC629B5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8F3-2FEA-4232-8E02-AC83896F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5DD-694E-4A91-B599-652AA08B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CFD-FD59-4B32-A85D-9043C5B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EE7-700E-4EF8-965B-5009494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CBC-38C4-47BD-B7AF-D6E97F0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F03-74F7-4569-A5DE-F66685F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700-7B27-4B07-BEE7-272C84A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(A. Umar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66B-A027-4687-866A-0D6868AA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848360" cy="259092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terprise Architecture and Integration Using SOA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ig Pic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429000"/>
            <a:ext cx="777240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15600" y="3697200"/>
            <a:ext cx="510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Architecture &amp; Integ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 for   Integrated 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gh Level Methodolog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utomated Tool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09040" y="5389560"/>
            <a:ext cx="81000" cy="193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00320" y="4160880"/>
            <a:ext cx="2066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52280" y="3495600"/>
            <a:ext cx="9296280" cy="2438640"/>
          </a:xfrm>
          <a:prstGeom prst="leftRightArrow">
            <a:avLst>
              <a:gd name="adj1" fmla="val 50000"/>
              <a:gd name="adj2" fmla="val 7588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152280" y="1590840"/>
            <a:ext cx="2133360" cy="14475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1880" y="76212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View –  SO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4410000"/>
            <a:ext cx="4718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-wide Connectivity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terprise Service B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43120"/>
            <a:ext cx="18288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essa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Compon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038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53160" y="3056040"/>
            <a:ext cx="38160" cy="9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13800" y="2986200"/>
            <a:ext cx="0" cy="89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3038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1590840"/>
            <a:ext cx="2133360" cy="15238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819440"/>
            <a:ext cx="18288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C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Compon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1600200"/>
            <a:ext cx="2133720" cy="15145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819440"/>
            <a:ext cx="18288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Compon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1600200"/>
            <a:ext cx="2133720" cy="1438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1752480"/>
            <a:ext cx="18288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Fin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" y="3000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5520" y="3114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2760" y="3114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7760" y="3038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581280"/>
            <a:ext cx="9677520" cy="3581640"/>
          </a:xfrm>
          <a:prstGeom prst="leftRightArrow">
            <a:avLst>
              <a:gd name="adj1" fmla="val 50000"/>
              <a:gd name="adj2" fmla="val 537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4300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4160" y="0"/>
            <a:ext cx="29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Platform 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8381880" cy="144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3124080" y="5562720"/>
            <a:ext cx="3041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29528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essa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97172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962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05440" y="3979800"/>
            <a:ext cx="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24320" y="3909960"/>
            <a:ext cx="4140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14300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129528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C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197172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152360"/>
            <a:ext cx="2133360" cy="28195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6">
                <a:moveTo>
                  <a:pt x="3600" y="0"/>
                </a:moveTo>
                <a:arcTo wR="3600" hR="3600" stAng="16200000" swAng="-5400000"/>
                <a:lnTo>
                  <a:pt x="0" y="24946"/>
                </a:lnTo>
                <a:arcTo wR="3600" hR="3600" stAng="10800000" swAng="-5400000"/>
                <a:lnTo>
                  <a:pt x="18000" y="28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130500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198108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115236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130500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Fin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981080"/>
            <a:ext cx="183492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00" y="7621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 Phone/P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18440" y="53352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ainfr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68580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ows/UNIX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6920" y="7621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419720"/>
            <a:ext cx="3276720" cy="76176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4419720"/>
            <a:ext cx="3276720" cy="76176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4876920"/>
            <a:ext cx="1067040" cy="533160"/>
          </a:xfrm>
          <a:prstGeom prst="can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3733920"/>
            <a:ext cx="9906120" cy="3352680"/>
          </a:xfrm>
          <a:prstGeom prst="leftRightArrow">
            <a:avLst>
              <a:gd name="adj1" fmla="val 50000"/>
              <a:gd name="adj2" fmla="val 588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3886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9625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419720"/>
            <a:ext cx="3276720" cy="76176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4240" y="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5257800"/>
            <a:ext cx="845820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1" name=""/>
          <p:cNvSpPr/>
          <p:nvPr/>
        </p:nvSpPr>
        <p:spPr>
          <a:xfrm>
            <a:off x="1295280" y="44956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vit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reless Gatew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14300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0" y="7621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 Phone/P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8440" y="53352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ainfr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129528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essa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7520" y="68580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ows/UNIX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197172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6920" y="7621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14300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29528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C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197172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152360"/>
            <a:ext cx="2133360" cy="28195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6">
                <a:moveTo>
                  <a:pt x="3600" y="0"/>
                </a:moveTo>
                <a:arcTo wR="3600" hR="3600" stAng="16200000" swAng="-5400000"/>
                <a:lnTo>
                  <a:pt x="0" y="24946"/>
                </a:lnTo>
                <a:arcTo wR="3600" hR="3600" stAng="10800000" swAng="-5400000"/>
                <a:lnTo>
                  <a:pt x="18000" y="28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130500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M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1981080"/>
            <a:ext cx="183528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1152360"/>
            <a:ext cx="2133720" cy="28195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1305000"/>
            <a:ext cx="18288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, Fin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1981080"/>
            <a:ext cx="1834920" cy="179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ing Platfo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ing Hardwar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42900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292760" y="388620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886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9625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886200"/>
            <a:ext cx="342900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73" name=""/>
          <p:cNvSpPr/>
          <p:nvPr/>
        </p:nvSpPr>
        <p:spPr>
          <a:xfrm>
            <a:off x="5865120" y="388620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449568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4648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vit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5486400"/>
            <a:ext cx="51721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erprise  Intranet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d, Wireless, WANs, MANs, LA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876920"/>
            <a:ext cx="1067040" cy="533160"/>
          </a:xfrm>
          <a:prstGeom prst="can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192320"/>
            <a:ext cx="807732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344320" y="34596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View of a Busib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320" y="990720"/>
            <a:ext cx="9753480" cy="2895480"/>
          </a:xfrm>
          <a:prstGeom prst="leftRightArrow">
            <a:avLst>
              <a:gd name="adj1" fmla="val 50000"/>
              <a:gd name="adj2" fmla="val 67058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B (enterprise service bus) View – Internal apps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5720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572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Adapter/Data 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ervice 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2819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914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9840" y="3657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5840" y="3657600"/>
            <a:ext cx="7491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61600" y="4267080"/>
            <a:ext cx="607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pplications (business components) provid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invoked through well 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ers are used for message and protocol 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ub provides communications services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service providers and consu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SB may consist of one or more hu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SB also provides 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981080"/>
            <a:ext cx="42670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2057400"/>
            <a:ext cx="236196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2438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71760" y="29250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971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1676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38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16765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838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40240" y="685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11440" y="68580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7560" y="762120"/>
            <a:ext cx="74916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762120"/>
            <a:ext cx="127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(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3505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505320"/>
            <a:ext cx="7617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1143000"/>
            <a:ext cx="762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1066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1066680"/>
            <a:ext cx="7617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334120"/>
            <a:ext cx="6094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16765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648320" y="2894760"/>
            <a:ext cx="304560" cy="351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2743200"/>
            <a:ext cx="9753480" cy="3733920"/>
          </a:xfrm>
          <a:prstGeom prst="leftRightArrow">
            <a:avLst>
              <a:gd name="adj1" fmla="val 50000"/>
              <a:gd name="adj2" fmla="val 52001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914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 ES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4724280"/>
            <a:ext cx="137160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I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59436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1,,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59436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20,,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2200" y="59436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30,,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19400" y="327672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Service Bus (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1905120"/>
            <a:ext cx="1371600" cy="1218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05120" y="1066680"/>
          <a:ext cx="16761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1676160" cy="685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2208960" y="1219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505320" y="2438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3124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160020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te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457200"/>
            <a:ext cx="13716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53352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6172200"/>
            <a:ext cx="3049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66880" y="5485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724280" y="5485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705720" y="548568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6324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Adap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4724280"/>
            <a:ext cx="129528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4724280"/>
            <a:ext cx="114300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4495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30492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133720"/>
            <a:ext cx="13716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3657600"/>
            <a:ext cx="114300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733920"/>
            <a:ext cx="236196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, Securit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4572000"/>
            <a:ext cx="7010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4419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4419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-46080"/>
            <a:ext cx="83818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A  (WS- enabled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" y="61722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6800" y="6216480"/>
            <a:ext cx="24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Adapter – may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late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1295280"/>
            <a:ext cx="9448920" cy="4267440"/>
          </a:xfrm>
          <a:prstGeom prst="leftRightArrow">
            <a:avLst>
              <a:gd name="adj1" fmla="val 50000"/>
              <a:gd name="adj2" fmla="val 440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362320" y="449496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449496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057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057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2057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19810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09880" y="449496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1080" y="3733920"/>
            <a:ext cx="221004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ztalk Server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2286000"/>
            <a:ext cx="20574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ztalk Server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2362320"/>
            <a:ext cx="1828800" cy="213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 WebSp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191120" y="37339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3200400"/>
            <a:ext cx="137160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0680" y="3048120"/>
            <a:ext cx="129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56760" y="2819520"/>
            <a:ext cx="4593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64771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6079680"/>
            <a:ext cx="91440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Times New Roman"/>
              </a:rPr>
              <a:t>Trading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26120" y="6251400"/>
            <a:ext cx="12441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87000" y="1579680"/>
            <a:ext cx="657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66400" y="1676520"/>
            <a:ext cx="657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42920" y="1676520"/>
            <a:ext cx="657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 anchorCtr="1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6019920"/>
            <a:ext cx="137160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61760" y="914400"/>
            <a:ext cx="117432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10000" y="914400"/>
            <a:ext cx="128556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32640" y="914400"/>
            <a:ext cx="140004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42280" y="955800"/>
            <a:ext cx="1241280" cy="398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11600" y="4876920"/>
            <a:ext cx="121248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90000" y="5105520"/>
            <a:ext cx="1768680" cy="70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P Inven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63720" y="4876920"/>
            <a:ext cx="108612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724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771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6477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-228600" y="0"/>
            <a:ext cx="9753120" cy="7276680"/>
            <a:chOff x="-228600" y="0"/>
            <a:chExt cx="9753120" cy="7276680"/>
          </a:xfrm>
        </p:grpSpPr>
        <p:sp>
          <p:nvSpPr>
            <p:cNvPr id="394" name=""/>
            <p:cNvSpPr/>
            <p:nvPr/>
          </p:nvSpPr>
          <p:spPr>
            <a:xfrm>
              <a:off x="5623200" y="5414760"/>
              <a:ext cx="31917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23200" y="703080"/>
              <a:ext cx="3901320" cy="46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67280" y="3094200"/>
              <a:ext cx="4539600" cy="316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400" y="0"/>
              <a:ext cx="5390640" cy="316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76840" y="4570920"/>
              <a:ext cx="3546360" cy="161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25640" y="1054800"/>
              <a:ext cx="2056680" cy="40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94480" y="1617120"/>
              <a:ext cx="1631160" cy="2883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92800" y="3164400"/>
              <a:ext cx="3475800" cy="140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1880" y="1687680"/>
              <a:ext cx="3688560" cy="140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0840" y="210960"/>
              <a:ext cx="3617280" cy="133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9600" y="98424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3280" y="421920"/>
              <a:ext cx="163152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pture 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fo (DM, BP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tes, BP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6520" y="210960"/>
              <a:ext cx="0" cy="35136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192960" y="5485320"/>
              <a:ext cx="117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228600" y="604764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-157320" y="6282360"/>
              <a:ext cx="6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5440" y="5861520"/>
              <a:ext cx="4515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e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r Input (mostly optional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nowledgebase Inputs (Patterns, COTS 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64080" y="1969200"/>
              <a:ext cx="1560240" cy="84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O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ci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715120" y="1335960"/>
              <a:ext cx="35424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92040" y="1969200"/>
              <a:ext cx="1205640" cy="84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merc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lution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4320" y="2391120"/>
              <a:ext cx="5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9120" y="2320560"/>
              <a:ext cx="42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3080" y="1617120"/>
              <a:ext cx="0" cy="351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92800" y="3445920"/>
              <a:ext cx="1773360" cy="91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ddleware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connectivi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73280" y="2813040"/>
              <a:ext cx="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2040" y="3375360"/>
              <a:ext cx="120564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rdware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figu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7080" y="3938040"/>
              <a:ext cx="28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30320" y="2813040"/>
              <a:ext cx="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43000" y="1054800"/>
              <a:ext cx="1572120" cy="2391120"/>
            </a:xfrm>
            <a:custGeom>
              <a:avLst/>
              <a:gdLst/>
              <a:ahLst/>
              <a:rect l="l" t="t" r="r" b="b"/>
              <a:pathLst>
                <a:path w="824" h="1536">
                  <a:moveTo>
                    <a:pt x="776" y="0"/>
                  </a:moveTo>
                  <a:cubicBezTo>
                    <a:pt x="388" y="328"/>
                    <a:pt x="0" y="656"/>
                    <a:pt x="8" y="912"/>
                  </a:cubicBezTo>
                  <a:cubicBezTo>
                    <a:pt x="16" y="1168"/>
                    <a:pt x="688" y="1432"/>
                    <a:pt x="824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35960" y="1969200"/>
              <a:ext cx="1347480" cy="84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siness Probl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lor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35960" y="3305160"/>
              <a:ext cx="1276560" cy="98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45520" y="2813040"/>
              <a:ext cx="0" cy="4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2600" y="1125000"/>
              <a:ext cx="2340720" cy="84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80240" y="1265760"/>
              <a:ext cx="1347480" cy="84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38400" y="2391120"/>
              <a:ext cx="134748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77040" y="2039040"/>
              <a:ext cx="0" cy="35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09680" y="3867840"/>
              <a:ext cx="1347480" cy="11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lution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Cos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forma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112880" y="3304800"/>
              <a:ext cx="851040" cy="35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77040" y="337536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33880" y="1125000"/>
              <a:ext cx="3546360" cy="4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97680" y="2531520"/>
              <a:ext cx="1205640" cy="84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41960" y="4008240"/>
              <a:ext cx="63828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8680" y="4922640"/>
              <a:ext cx="136980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ork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r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65040" y="5555520"/>
              <a:ext cx="134748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6520" y="5344560"/>
              <a:ext cx="615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54520" y="2602080"/>
              <a:ext cx="1134720" cy="26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30320" y="4359960"/>
              <a:ext cx="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51320" y="5485320"/>
              <a:ext cx="61596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97680" y="4008240"/>
              <a:ext cx="70920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552280" y="4922640"/>
              <a:ext cx="2198880" cy="3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42800" y="1711080"/>
              <a:ext cx="119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42880" y="23436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nterprise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57920" y="3188160"/>
              <a:ext cx="1058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tform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67080" y="459432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6380280" y="2975400"/>
              <a:ext cx="131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qui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7982280" y="3070080"/>
              <a:ext cx="22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grated 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16440" y="161712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77040" y="914040"/>
              <a:ext cx="0" cy="35136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35960" y="5696280"/>
              <a:ext cx="1276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154160" y="253152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-157320" y="6493320"/>
              <a:ext cx="638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51320" y="2109600"/>
              <a:ext cx="4960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08000" y="5696280"/>
              <a:ext cx="615960" cy="1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58280" y="161712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24080" y="91404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9280" y="210960"/>
              <a:ext cx="0" cy="3146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84920" y="161712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76800" y="308124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84920" y="309420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43080" y="302400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64080" y="323496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05920" y="3234960"/>
              <a:ext cx="0" cy="421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49840" y="5836680"/>
              <a:ext cx="6159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21880" y="5696280"/>
              <a:ext cx="615960" cy="1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2520" y="234360"/>
              <a:ext cx="110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5040" y="4313160"/>
              <a:ext cx="137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18960" y="234360"/>
              <a:ext cx="1748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gration Foc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3880" y="4922640"/>
              <a:ext cx="1443600" cy="98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75360" y="5133600"/>
              <a:ext cx="1276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figuration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15120" y="4359960"/>
              <a:ext cx="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06560" y="6437520"/>
              <a:ext cx="185112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urity &amp; Projec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nn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52280" y="5625720"/>
              <a:ext cx="28368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970680" y="4992840"/>
              <a:ext cx="113436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74600" y="4289760"/>
              <a:ext cx="0" cy="12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14000" y="4289760"/>
              <a:ext cx="1276560" cy="12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25640" y="5555520"/>
              <a:ext cx="1418400" cy="77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09680" y="5696280"/>
              <a:ext cx="120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ject 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12880" y="604764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97680" y="5977440"/>
              <a:ext cx="61596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97680" y="6188760"/>
              <a:ext cx="615960" cy="1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12680" y="492120"/>
              <a:ext cx="1276560" cy="84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0640" y="6563520"/>
              <a:ext cx="136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239240" cy="5010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210680" y="0"/>
            <a:ext cx="66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utomated Tool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lanning, Integration, Security &amp;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Architecture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1447920"/>
            <a:ext cx="4191120" cy="502920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5029200"/>
              <a:gd name="textAreaBottom" fmla="*/ 4824720 h 50292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1523880"/>
            <a:ext cx="1219320" cy="4876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4876920"/>
              <a:gd name="textAreaBottom" fmla="*/ 4817520 h 4876920"/>
            </a:gdLst>
            <a:ahLst/>
            <a:rect l="textAreaLeft" t="textAreaTop" r="textAreaRight" b="textAreaBottom"/>
            <a:pathLst>
              <a:path w="21600" h="86374">
                <a:moveTo>
                  <a:pt x="3600" y="0"/>
                </a:moveTo>
                <a:arcTo wR="3600" hR="3600" stAng="16200000" swAng="-5400000"/>
                <a:lnTo>
                  <a:pt x="0" y="82774"/>
                </a:lnTo>
                <a:arcTo wR="3600" hR="3600" stAng="10800000" swAng="-5400000"/>
                <a:lnTo>
                  <a:pt x="18000" y="863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274320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39625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51814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17524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Business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usiness Processes, Strategies and Go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62320" y="2819520"/>
            <a:ext cx="3886200" cy="106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P Packages, Vendor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4038480"/>
            <a:ext cx="464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Platform  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Platforms, Middleware Serv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5334120"/>
            <a:ext cx="459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ANs, LANs, Wireless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5400000">
            <a:off x="5545440" y="3485160"/>
            <a:ext cx="3451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ure and 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Oriented Architecture (SO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962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-360" y="2333160"/>
            <a:ext cx="1864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NTERPR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-415440" y="4978800"/>
            <a:ext cx="27500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INFRASTRUCTUR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330320" y="3412800"/>
            <a:ext cx="2344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5328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7732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1523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533520"/>
            <a:ext cx="6477120" cy="4952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14300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mmerce    Ebusiness    Etailers    E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Ps  SCMs    CRMs   EAIs   Message 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ve Systems     Workflows      EDI    eb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P       DSL   Clearing Houses    Trading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AP  MOM   CORBA    ODBC/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P-Heavy  TP-Lite   E-catalogs   Object-transactions   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   SMIL  RDF    DOM    SS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ML   VML     EJB  J2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86200" y="5562720"/>
            <a:ext cx="119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 ? ? ? 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4039200" y="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r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4876920"/>
            <a:ext cx="16844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3352680" cy="1295280"/>
          </a:xfrm>
          <a:prstGeom prst="rightArrow">
            <a:avLst>
              <a:gd name="adj1" fmla="val 50000"/>
              <a:gd name="adj2" fmla="val 647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s and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800" y="2514600"/>
            <a:ext cx="3200400" cy="1295280"/>
          </a:xfrm>
          <a:prstGeom prst="rightArrow">
            <a:avLst>
              <a:gd name="adj1" fmla="val 50000"/>
              <a:gd name="adj2" fmla="val 617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3733920"/>
            <a:ext cx="3657600" cy="121896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43000" y="4952880"/>
            <a:ext cx="7772400" cy="1295640"/>
          </a:xfrm>
          <a:prstGeom prst="rightArrow">
            <a:avLst>
              <a:gd name="adj1" fmla="val 50000"/>
              <a:gd name="adj2" fmla="val 14997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48720" y="28954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ing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34120" y="4191120"/>
            <a:ext cx="44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, Architectures and Integr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27840" y="5410080"/>
            <a:ext cx="50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projects, Hands on investigations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mework for Discus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2440" y="2422440"/>
            <a:ext cx="45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0760" y="2389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958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9960" y="246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75080" y="4175280"/>
            <a:ext cx="45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3040" y="4141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24852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2600" y="421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449568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295280"/>
            <a:ext cx="396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Strategies, Services and Proces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00400"/>
            <a:ext cx="44956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876920"/>
            <a:ext cx="4496040" cy="15238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5105520"/>
            <a:ext cx="3429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Computing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Network 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6480" y="3429000"/>
            <a:ext cx="436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 Business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13716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" y="3124080"/>
            <a:ext cx="19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" y="5334120"/>
            <a:ext cx="17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rincip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y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y interact/interfa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architectur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user eff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ist at several levels in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rchitectures of individual apps (e.g., departmental invent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-wide architectures (e.g., ER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enterprise (B2B) architectures (e.g., SCMs, emark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focus: enterprise and inter-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ptual View of EA and Its Benefi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209680"/>
            <a:ext cx="4191120" cy="3124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2590920"/>
            <a:ext cx="379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of busin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y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interaction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3505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990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715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, Au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Go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600200"/>
            <a:ext cx="533160" cy="533520"/>
          </a:xfrm>
          <a:prstGeom prst="upArrow">
            <a:avLst>
              <a:gd name="adj1" fmla="val 50000"/>
              <a:gd name="adj2" fmla="val 25017"/>
            </a:avLst>
          </a:prstGeom>
          <a:gradFill rotWithShape="0">
            <a:gsLst>
              <a:gs pos="0">
                <a:srgbClr val="ffff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410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ffff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6576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gradFill rotWithShape="0">
            <a:gsLst>
              <a:gs pos="0">
                <a:srgbClr val="ffff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4952880"/>
            <a:ext cx="6476760" cy="1643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Services (Layer 1-4 of O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2520"/>
            <a:ext cx="6629400" cy="1371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-1139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833400"/>
            <a:ext cx="21333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com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.g. Provisio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63160" y="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5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757080"/>
            <a:ext cx="2209680" cy="6098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Vertical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RP, Finan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442880"/>
            <a:ext cx="403848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BPs (Marketingt, CRM, 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6629400" cy="1371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286000"/>
            <a:ext cx="190512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com O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286000"/>
            <a:ext cx="228600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Vertical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743200"/>
            <a:ext cx="44197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Apps: (ERPs  for CRM, HR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276720"/>
            <a:ext cx="6553080" cy="1676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3733920"/>
            <a:ext cx="259092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e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AP, J2ME, BREW,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and Middlewar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3733920"/>
            <a:ext cx="274320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ized Services (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B,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343400"/>
            <a:ext cx="5638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 Middleware (Web, Web 2.0, Web services ,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410080"/>
            <a:ext cx="190476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Ns, MA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410080"/>
            <a:ext cx="20574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G Cellular, WLA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ANs,  WL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ites, MANETs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5562720"/>
            <a:ext cx="1295640" cy="99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ver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457200"/>
            <a:ext cx="1905120" cy="6159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757080"/>
            <a:ext cx="1828800" cy="6098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linic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133720"/>
            <a:ext cx="1828800" cy="609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H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-152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120" y="6824160"/>
            <a:ext cx="5715000" cy="3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ntegration challe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for integr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l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s with integrated systems (e.g., ERP system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ss/integratio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EAI (Enterprise Application Integration)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Re-architect and grad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g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 approach has its plusses/min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 life situations require a mixture of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study these topics in det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05920" y="335268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artner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ppli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028000" y="2997360"/>
            <a:ext cx="342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589720"/>
            <a:ext cx="1201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mploye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076720" y="314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5589720"/>
            <a:ext cx="1158840" cy="62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8360" y="2637000"/>
            <a:ext cx="944640" cy="69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90600" y="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nterprise Business Pattern (BF Level)  – Ret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1484280"/>
            <a:ext cx="19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3640" y="3141720"/>
            <a:ext cx="146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050920" y="3213000"/>
            <a:ext cx="64944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050920" y="1989000"/>
            <a:ext cx="72072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198900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77720" y="3213000"/>
            <a:ext cx="954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68360" y="3068640"/>
            <a:ext cx="2570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-352440" y="2724120"/>
            <a:ext cx="773280" cy="646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5928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84360" y="5373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768760"/>
            <a:ext cx="122580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3600" y="2806560"/>
            <a:ext cx="10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C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797360"/>
            <a:ext cx="122580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3800" y="5013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2781360"/>
            <a:ext cx="137016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9760" y="30481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16360" y="1988640"/>
            <a:ext cx="674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16360" y="3357720"/>
            <a:ext cx="67464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4149720"/>
            <a:ext cx="10098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4797360"/>
            <a:ext cx="1009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inanc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565360"/>
            <a:ext cx="1247760" cy="1320840"/>
          </a:xfrm>
          <a:custGeom>
            <a:avLst/>
            <a:gdLst>
              <a:gd name="textAreaLeft" fmla="*/ 60840 w 1247760"/>
              <a:gd name="textAreaRight" fmla="*/ 1186920 w 1247760"/>
              <a:gd name="textAreaTop" fmla="*/ 60840 h 1320840"/>
              <a:gd name="textAreaBottom" fmla="*/ 1260000 h 1320840"/>
            </a:gdLst>
            <a:ahLst/>
            <a:rect l="textAreaLeft" t="textAreaTop" r="textAreaRight" b="textAreaBottom"/>
            <a:pathLst>
              <a:path w="21600" h="22865">
                <a:moveTo>
                  <a:pt x="3600" y="0"/>
                </a:moveTo>
                <a:arcTo wR="3600" hR="3600" stAng="16200000" swAng="-5400000"/>
                <a:lnTo>
                  <a:pt x="0" y="19265"/>
                </a:lnTo>
                <a:arcTo wR="3600" hR="3600" stAng="10800000" swAng="-5400000"/>
                <a:lnTo>
                  <a:pt x="18000" y="228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3840" y="281952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692280"/>
            <a:ext cx="1657440" cy="11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836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Wareho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1125360"/>
            <a:ext cx="2663640" cy="7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05920" y="335268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artner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ppli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28000" y="2997360"/>
            <a:ext cx="342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5589720"/>
            <a:ext cx="1201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mploye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76720" y="314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360" y="5589720"/>
            <a:ext cx="1158840" cy="625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8360" y="2637000"/>
            <a:ext cx="944640" cy="693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27320" y="1904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nterprise Business Pattern (BF Level)  – Ret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19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23640" y="3141720"/>
            <a:ext cx="146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050920" y="3213000"/>
            <a:ext cx="64944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920" y="1989000"/>
            <a:ext cx="72072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198900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477720" y="3213000"/>
            <a:ext cx="954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68360" y="3068640"/>
            <a:ext cx="2570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-352440" y="2724120"/>
            <a:ext cx="773280" cy="646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5928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284360" y="5373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768760"/>
            <a:ext cx="1225800" cy="86508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3600" y="2806560"/>
            <a:ext cx="10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(C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4797360"/>
            <a:ext cx="122580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3800" y="5013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2781360"/>
            <a:ext cx="13701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6080" y="2971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916360" y="1988640"/>
            <a:ext cx="674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16360" y="3357720"/>
            <a:ext cx="67464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4149720"/>
            <a:ext cx="10098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4797360"/>
            <a:ext cx="100944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inanc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2565360"/>
            <a:ext cx="12477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3840" y="281952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692280"/>
            <a:ext cx="1657440" cy="115236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6000" y="836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areho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52472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1125360"/>
            <a:ext cx="2663640" cy="7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95280"/>
            <a:ext cx="304920" cy="152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600200"/>
            <a:ext cx="30492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219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sour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523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14400"/>
            <a:ext cx="3049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838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ail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00:58:18Z</dcterms:created>
  <dc:creator>umar</dc:creator>
  <dc:description/>
  <dc:language>en-US</dc:language>
  <cp:lastModifiedBy>aumar</cp:lastModifiedBy>
  <cp:lastPrinted>2001-12-06T22:27:12Z</cp:lastPrinted>
  <dcterms:modified xsi:type="dcterms:W3CDTF">2009-07-20T03:49:32Z</dcterms:modified>
  <cp:revision>182</cp:revision>
  <dc:subject/>
  <dc:title>No Slide Title</dc:title>
</cp:coreProperties>
</file>