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6552-9027-45F6-AFAB-6DF9CF501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123920" y="4343400"/>
            <a:ext cx="461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standard Web protocols HTTP and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ology innovations for XML Web serv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AP (Simple Object Access Protocol) - Explicit serialization (HTTP + XML description) protocol used in service ex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SDL (XML Web services Description Language) - XML document describing the location and interfaces a particular service supports – the client's con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 (Discovery) and UDDI (Universal Description, discovery, and Integration) - Standards for locating XML 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1B32-04D5-42AC-A346-56604D108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3A78-4359-4D9D-BBE3-B2E0D50FF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223920" y="4343400"/>
            <a:ext cx="64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are Web Services struct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Click 1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the outside world, a Web Service is an application that accepts service requests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Click 2&gt;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does some processing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Click 3&gt;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and then returns a response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Click 4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ally, a number of things happ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Web Service contains a Listener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Click 5&gt;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that waits for requests. When a request is received, the Listener forwards it on to a component that implements the required business logic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Click 6&gt;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 This component might be designed to operate specifically as a Web Service, or it could be some other business component or COM object that the Web Service wants to expose to the outside world. In the latter case, a developer will write some logic that acts as a façade for the Web Service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Click 7&gt;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nd forwards the request on to the COM object itself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Click 8&gt;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M object or other business logic may make use of a database or other data store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Click 9&gt;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accessed using a Data Access layer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Click 10&gt;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now looks like the classic DNA architecture, where we are often used to the data access layer being used to obtain data from a database. However, there is nothing to stop the Web Service from getting its information from another Web Service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Click 11&gt;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- maybe a Building Block Web Service, or an application specific Web Service. Suddenly you have an implementation of the .NET vis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graphicFrame>
        <p:nvGraphicFramePr>
          <p:cNvPr id="323" name=""/>
          <p:cNvGraphicFramePr/>
          <p:nvPr/>
        </p:nvGraphicFramePr>
        <p:xfrm>
          <a:off x="1009800" y="4492800"/>
          <a:ext cx="4822560" cy="3797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4492800"/>
                    <a:ext cx="482256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D7BD-DA45-4E22-B96E-D3F80003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8AA-E2CE-41C3-A91C-295CD020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FB8C-F999-48D5-B7ED-D77412E4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AB23-DC4D-496B-98C9-DCD85E83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E580-7111-41FD-A039-ED9CEF28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574A-70D1-4D41-A32C-06CAACD4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B741-DF32-40D5-A94C-62FE3E5B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8416-24DD-46B0-B115-92BD3826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4389-7DFB-4438-9B1C-411C170A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D1BA-665D-4A19-9BCB-4026E947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9C05-CDC6-43D3-B3A7-B541AF0A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25F6-DC0F-4B0E-8B33-A2FA2BF0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DD82-46EB-4BC8-9EE8-786262400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esearch.microsoft.co/scg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20968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 Networking, Web 2.0 and Web Servic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971800"/>
            <a:ext cx="7543800" cy="25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90040" y="3257640"/>
            <a:ext cx="439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Agen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Networking &amp; Web 2.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ices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ices – A Closer Look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Object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00320" y="3733920"/>
            <a:ext cx="189864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gs Versus Wik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, less collaborative. a posting is owned by pos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xt is considered to be static: once posted, the posting doesn't change (not true, of course, but expecte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ds towards long scrolls (Bernstei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ological: typically monologue with audience commenta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oral: last in first o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ing internal links is painful and secondary to the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ks used to connect outside the blo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minantly chronological - but essays are possi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mediate: written in the moment, written of the mo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914400"/>
            <a:ext cx="44956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m is creation of documents (individual pages as well as the entire wikiweb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ds towards expressing ideas as relationships between pag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n't captur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hang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thought/ideas, but creates artifacts of those chang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urages cross linking: dominantly structural, a-tempo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ypertext linking central to text cre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ledge becomes webbed: situated, contextualized b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ledge changes, can be chang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ted: written in the topic, of the top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Web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ly known as Web Services (W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ide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usable components (black box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provide services (WS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providers can publish the services (UDDI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consumers can search, discover and invoke services over the Web (SOAP, HTTP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ation of S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.NET and Sun J2EE support WS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029200" y="914400"/>
            <a:ext cx="3733920" cy="100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ice: Cata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tion: Query_cata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2743200"/>
            <a:ext cx="3733560" cy="131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ice: Purcha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tion: Purchase-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tion: Query-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…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0040" y="887400"/>
            <a:ext cx="185400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ery_Cata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3352680"/>
            <a:ext cx="259092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ery_Cata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rchase-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3657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1143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7160" y="277920"/>
            <a:ext cx="22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ice Consu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1800" y="27792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ice Provi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83520" y="4343400"/>
            <a:ext cx="7588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Ide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providers and consumers are programs (not hum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services (interface/service definition languag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 services (Direct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and Discover   (Directory – yellow p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e   (HTTP, SO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048120" y="1904760"/>
            <a:ext cx="175248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Service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80880" y="1600200"/>
          <a:ext cx="8458200" cy="483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45820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e a Service -- WS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304920" y="1219320"/>
          <a:ext cx="9601200" cy="61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1219320"/>
                    <a:ext cx="9601200" cy="61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DDI Defini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762120"/>
          <a:ext cx="9144000" cy="638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63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and Discover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quiry APIs such as  find_business, find_service, get_businessDetail, get_serviceDetail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ers API such a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_business, save_service, delete_business, delete_service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earch for a company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lt;find_business generic="1.0“ xmlns="urn:uddi-org:api"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      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lt;name&gt;Supplier1 Company&lt;/na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&lt;/find_business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AP Message 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2011320"/>
          <a:ext cx="9144000" cy="43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1320"/>
                    <a:ext cx="914400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ap Messag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1219320"/>
          <a:ext cx="9372600" cy="605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372600" cy="60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320" y="990720"/>
            <a:ext cx="9753480" cy="2895480"/>
          </a:xfrm>
          <a:prstGeom prst="leftRightArrow">
            <a:avLst>
              <a:gd name="adj1" fmla="val 50000"/>
              <a:gd name="adj2" fmla="val 67058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Oriented Architecture – Conceptual View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457200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57200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 Adapter/Data Ma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Service 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28195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9144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39840" y="3657600"/>
            <a:ext cx="749160" cy="3988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25840" y="3657600"/>
            <a:ext cx="749160" cy="3988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61600" y="4267080"/>
            <a:ext cx="6075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pplications (business components) provide serv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are invoked through well defined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ers are used for message and protocol trans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Hub provides communications services betwe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ous service providers and consum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SB may consist of one or more hub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SB also provides Directory, Security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v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1981080"/>
            <a:ext cx="42670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Hu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tegration Server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057400"/>
            <a:ext cx="236196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, Security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v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2438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471760" y="292500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90920" y="29718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33920" y="1676520"/>
            <a:ext cx="304560" cy="3045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6200" y="8380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1676520"/>
            <a:ext cx="304560" cy="3045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8380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40240" y="685800"/>
            <a:ext cx="749160" cy="3988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11440" y="685800"/>
            <a:ext cx="749160" cy="3988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7560" y="762120"/>
            <a:ext cx="749160" cy="3988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62120"/>
            <a:ext cx="127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 (ES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3505320"/>
            <a:ext cx="76176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19720" y="3505320"/>
            <a:ext cx="76176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1143000"/>
            <a:ext cx="7621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1066680"/>
            <a:ext cx="76176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1066680"/>
            <a:ext cx="76176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5334120"/>
            <a:ext cx="6094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16765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648320" y="2894760"/>
            <a:ext cx="304560" cy="3510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al Versus Enterprise Systems (Computing, Networking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3809880" cy="2286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umer (client) and Provider (server) model (e.g., Web browsers and web servers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ly controlled content providers (e.g. Websites, Encyclopedia On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ganized around how computers work: folders, 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1.0 (classical we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5200" y="1641600"/>
            <a:ext cx="344376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pris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mputing, Network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80760" y="1447920"/>
            <a:ext cx="3443760" cy="82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mputing, Network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2438280"/>
            <a:ext cx="4343400" cy="2895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er to Peer model (e.g., text messaging)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ive providers (e.g., Blogs, Wikipedi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ed around how people work (e.g., popular things, similar things, groups/communities) –MS Research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research.microsoft.co/scg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2.0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320" y="5486400"/>
            <a:ext cx="838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g the two: very powerful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ing ecommerce platforms with social network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prise portals with social networking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648320" y="1143000"/>
            <a:ext cx="2057400" cy="495288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4952880"/>
              <a:gd name="textAreaBottom" fmla="*/ 4852440 h 4952880"/>
            </a:gdLst>
            <a:ahLst/>
            <a:rect l="textAreaLeft" t="textAreaTop" r="textAreaRight" b="textAreaBottom"/>
            <a:pathLst>
              <a:path w="21600" h="51993">
                <a:moveTo>
                  <a:pt x="3600" y="0"/>
                </a:moveTo>
                <a:arcTo wR="3600" hR="3600" stAng="16200000" swAng="-5400000"/>
                <a:lnTo>
                  <a:pt x="0" y="48393"/>
                </a:lnTo>
                <a:arcTo wR="3600" hR="3600" stAng="10800000" swAng="-5400000"/>
                <a:lnTo>
                  <a:pt x="18000" y="51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447920"/>
            <a:ext cx="1676520" cy="44956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brows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76920" y="1371600"/>
            <a:ext cx="1676160" cy="16002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D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3124080"/>
            <a:ext cx="1676160" cy="28195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1752480"/>
            <a:ext cx="2971800" cy="457200"/>
          </a:xfrm>
          <a:prstGeom prst="rightArrow">
            <a:avLst>
              <a:gd name="adj1" fmla="val 50000"/>
              <a:gd name="adj2" fmla="val 9253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1447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Lo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1905120" y="2590920"/>
            <a:ext cx="2869920" cy="457200"/>
          </a:xfrm>
          <a:prstGeom prst="rightArrow">
            <a:avLst>
              <a:gd name="adj1" fmla="val 44444"/>
              <a:gd name="adj2" fmla="val 10244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22860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Link to WS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40384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Description in WS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3352680"/>
            <a:ext cx="2819520" cy="457200"/>
          </a:xfrm>
          <a:prstGeom prst="rightArrow">
            <a:avLst>
              <a:gd name="adj1" fmla="val 50000"/>
              <a:gd name="adj2" fmla="val 8779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00000">
            <a:off x="1752120" y="4419720"/>
            <a:ext cx="2971800" cy="457200"/>
          </a:xfrm>
          <a:prstGeom prst="rightArrow">
            <a:avLst>
              <a:gd name="adj1" fmla="val 44444"/>
              <a:gd name="adj2" fmla="val 10607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5334120"/>
            <a:ext cx="2819520" cy="457200"/>
          </a:xfrm>
          <a:prstGeom prst="leftRightArrow">
            <a:avLst>
              <a:gd name="adj1" fmla="val 50000"/>
              <a:gd name="adj2" fmla="val 10963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50292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SOAP 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76520" y="31240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WSDL Disco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58440" y="2386080"/>
            <a:ext cx="1107360" cy="2562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0800000">
            <a:off x="6629040" y="2438280"/>
            <a:ext cx="1066680" cy="457200"/>
          </a:xfrm>
          <a:prstGeom prst="rightArrow">
            <a:avLst>
              <a:gd name="adj1" fmla="val 44444"/>
              <a:gd name="adj2" fmla="val 3807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0800000">
            <a:off x="6629040" y="3809880"/>
            <a:ext cx="1066680" cy="457200"/>
          </a:xfrm>
          <a:prstGeom prst="rightArrow">
            <a:avLst>
              <a:gd name="adj1" fmla="val 44444"/>
              <a:gd name="adj2" fmla="val 3807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53080" y="4343400"/>
            <a:ext cx="12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WS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294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Regi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Services (In Practi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Services (In Practi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80880" y="1266840"/>
          <a:ext cx="8610840" cy="49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66840"/>
                    <a:ext cx="861084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343520" y="6338880"/>
            <a:ext cx="506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Find a bookstore closest to my hou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127920" y="5300640"/>
            <a:ext cx="2724120" cy="6955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5359320"/>
            <a:ext cx="55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ML Web service consumers can send and receive messages using X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27920" y="4330800"/>
            <a:ext cx="2724120" cy="8683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S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ML Web services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escription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60760"/>
            <a:ext cx="566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ML Web services are defined in terms of the formats and ordering of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6172200"/>
            <a:ext cx="55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using open Internet protoc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27920" y="6083280"/>
            <a:ext cx="2724120" cy="692280"/>
          </a:xfrm>
          <a:prstGeom prst="rect">
            <a:avLst/>
          </a:prstGeom>
          <a:solidFill>
            <a:srgbClr val="ffff99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ML &amp; HT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XML-Web Services and XML/SOA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895480"/>
            <a:ext cx="579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Times New Roman"/>
              </a:rPr>
              <a:t>A programmable application component accessible via standard Web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85440" y="1143000"/>
            <a:ext cx="2590920" cy="1857240"/>
            <a:chOff x="685440" y="1143000"/>
            <a:chExt cx="2590920" cy="1857240"/>
          </a:xfrm>
        </p:grpSpPr>
        <p:sp>
          <p:nvSpPr>
            <p:cNvPr id="210" name="Cloud"/>
            <p:cNvSpPr/>
            <p:nvPr/>
          </p:nvSpPr>
          <p:spPr>
            <a:xfrm flipH="1">
              <a:off x="685080" y="1143000"/>
              <a:ext cx="2590920" cy="1857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29600" y="1522800"/>
              <a:ext cx="1491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 Narrow"/>
                </a:rPr>
                <a:t>Open</a:t>
              </a:r>
              <a:br>
                <a:rPr sz="2000"/>
              </a:br>
              <a:r>
                <a:rPr b="1" lang="en-US" sz="2000" spc="-1" strike="noStrike">
                  <a:solidFill>
                    <a:srgbClr val="3333cc"/>
                  </a:solidFill>
                  <a:latin typeface="Arial Narrow"/>
                </a:rPr>
                <a:t>   Internet</a:t>
              </a:r>
              <a:br>
                <a:rPr sz="2000"/>
              </a:br>
              <a:r>
                <a:rPr b="1" lang="en-US" sz="2000" spc="-1" strike="noStrike">
                  <a:solidFill>
                    <a:srgbClr val="3333cc"/>
                  </a:solidFill>
                  <a:latin typeface="Arial Narrow"/>
                </a:rPr>
                <a:t>      Protoco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6629400" y="1219320"/>
            <a:ext cx="1554120" cy="14094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XML Web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27920" y="3352680"/>
            <a:ext cx="2724120" cy="8654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D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niversal Description,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iscovery and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3657600"/>
            <a:ext cx="55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ide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f services on the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1905120"/>
            <a:ext cx="2438640" cy="533160"/>
          </a:xfrm>
          <a:prstGeom prst="rightArrow">
            <a:avLst>
              <a:gd name="adj1" fmla="val 50000"/>
              <a:gd name="adj2" fmla="val 1143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NE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909720"/>
          <a:ext cx="8305920" cy="594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09720"/>
                    <a:ext cx="830592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-304920" y="510552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543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crosoft’s Dot Net Architectur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90880" y="4910040"/>
            <a:ext cx="2108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219320"/>
            <a:ext cx="2514600" cy="4572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24280" y="1981080"/>
            <a:ext cx="1905120" cy="34974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3962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1960" y="685800"/>
            <a:ext cx="614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523880"/>
            <a:ext cx="1371600" cy="338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2440" y="609480"/>
            <a:ext cx="742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175248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238880" y="1447920"/>
            <a:ext cx="1676520" cy="4038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erp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rpo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g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3276720"/>
            <a:ext cx="928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685800"/>
            <a:ext cx="993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25146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95000" y="609480"/>
            <a:ext cx="1123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erp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14600" y="502920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7200" y="2895480"/>
            <a:ext cx="1245240" cy="911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7560" y="4800600"/>
            <a:ext cx="1187280" cy="637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e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18288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1960" y="54864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91120" y="3048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6360" y="5867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773480" y="55627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-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960" y="220968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 N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erprise 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40" y="1752480"/>
            <a:ext cx="1199520" cy="1186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00320" y="3276720"/>
            <a:ext cx="1199520" cy="1186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00320" y="4495680"/>
            <a:ext cx="1199520" cy="1186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76840" y="2209680"/>
            <a:ext cx="1249920" cy="1186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76840" y="3657600"/>
            <a:ext cx="1249920" cy="1186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19520" y="50292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AP O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1447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 Over Non-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18288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AP O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1371600"/>
            <a:ext cx="1828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 Net Cl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21840" y="5715000"/>
            <a:ext cx="577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run ‘classical’ Web Apps (ASP, IIS, MS-Acc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lso ‘WS enable” application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with back-end app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610480" y="15228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-304920" y="51832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543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un J2EE Platfor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90880" y="4987800"/>
            <a:ext cx="2108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1601640"/>
            <a:ext cx="1905120" cy="434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19720" y="2211480"/>
            <a:ext cx="1720800" cy="319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057400" y="3583080"/>
            <a:ext cx="609480" cy="303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9960" y="1982880"/>
            <a:ext cx="742320" cy="363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7400" y="763560"/>
            <a:ext cx="614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66880" y="1601640"/>
            <a:ext cx="1295640" cy="200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Contain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rvele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SP pag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M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2440" y="687240"/>
            <a:ext cx="742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1677960"/>
            <a:ext cx="0" cy="358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34320" y="1525680"/>
            <a:ext cx="167616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erp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rpo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g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48520" y="3354480"/>
            <a:ext cx="6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48320" y="763560"/>
            <a:ext cx="993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9960" y="2744640"/>
            <a:ext cx="742320" cy="363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23637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00320" y="3735360"/>
            <a:ext cx="742320" cy="363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00320" y="4573440"/>
            <a:ext cx="742320" cy="363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90440" y="687240"/>
            <a:ext cx="564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57400" y="48006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53360" y="2363760"/>
            <a:ext cx="1123200" cy="637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erp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53360" y="3506760"/>
            <a:ext cx="1123200" cy="637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erp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53360" y="4573440"/>
            <a:ext cx="1123200" cy="637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erp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190656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960" y="545004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62520" y="3278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2800" y="613584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10240" y="5638680"/>
            <a:ext cx="126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2E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16280" y="60213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-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6172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895480" y="6172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610480" y="15228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2680" y="228240"/>
            <a:ext cx="853272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verview of Web Services</a:t>
            </a:r>
            <a:br>
              <a:rPr sz="4400"/>
            </a:br>
            <a:r>
              <a:rPr b="0" lang="en-GB" sz="3200" spc="-1" strike="noStrike">
                <a:solidFill>
                  <a:srgbClr val="00cc99"/>
                </a:solidFill>
                <a:latin typeface="Times New Roman"/>
              </a:rPr>
              <a:t>Web Service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90920" y="186696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981080" y="1638360"/>
            <a:ext cx="5105520" cy="5105160"/>
            <a:chOff x="1981080" y="1638360"/>
            <a:chExt cx="5105520" cy="5105160"/>
          </a:xfrm>
        </p:grpSpPr>
        <p:sp>
          <p:nvSpPr>
            <p:cNvPr id="289" name=""/>
            <p:cNvSpPr/>
            <p:nvPr/>
          </p:nvSpPr>
          <p:spPr>
            <a:xfrm>
              <a:off x="1981080" y="1638360"/>
              <a:ext cx="5105520" cy="51051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39640" y="1989000"/>
              <a:ext cx="1815840" cy="4597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Web 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304920" y="2400480"/>
            <a:ext cx="1752480" cy="609480"/>
            <a:chOff x="304920" y="2400480"/>
            <a:chExt cx="1752480" cy="609480"/>
          </a:xfrm>
        </p:grpSpPr>
        <p:sp>
          <p:nvSpPr>
            <p:cNvPr id="292" name=""/>
            <p:cNvSpPr/>
            <p:nvPr/>
          </p:nvSpPr>
          <p:spPr>
            <a:xfrm>
              <a:off x="304920" y="3009960"/>
              <a:ext cx="1752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920" y="2400480"/>
              <a:ext cx="156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304560" y="4321080"/>
            <a:ext cx="1752840" cy="441360"/>
            <a:chOff x="304560" y="4321080"/>
            <a:chExt cx="1752840" cy="441360"/>
          </a:xfrm>
        </p:grpSpPr>
        <p:sp>
          <p:nvSpPr>
            <p:cNvPr id="295" name=""/>
            <p:cNvSpPr/>
            <p:nvPr/>
          </p:nvSpPr>
          <p:spPr>
            <a:xfrm flipH="1">
              <a:off x="304920" y="4762440"/>
              <a:ext cx="1752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4560" y="4321080"/>
              <a:ext cx="12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3657600" y="2400480"/>
            <a:ext cx="2286000" cy="3809880"/>
            <a:chOff x="3657600" y="2400480"/>
            <a:chExt cx="2286000" cy="3809880"/>
          </a:xfrm>
        </p:grpSpPr>
        <p:sp>
          <p:nvSpPr>
            <p:cNvPr id="298" name=""/>
            <p:cNvSpPr/>
            <p:nvPr/>
          </p:nvSpPr>
          <p:spPr>
            <a:xfrm>
              <a:off x="3657600" y="2400480"/>
              <a:ext cx="2286000" cy="3809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5381400">
              <a:off x="3790440" y="3524760"/>
              <a:ext cx="1704600" cy="82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Busin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5029200" y="2367000"/>
            <a:ext cx="785880" cy="380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5443800">
            <a:off x="4382280" y="3232440"/>
            <a:ext cx="18403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22680" y="2362320"/>
            <a:ext cx="685800" cy="380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3527280" y="3557160"/>
            <a:ext cx="959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ac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29718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4419360" y="50292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7612200" y="4038480"/>
            <a:ext cx="1531800" cy="1828440"/>
            <a:chOff x="7612200" y="4038480"/>
            <a:chExt cx="1531800" cy="1828440"/>
          </a:xfrm>
        </p:grpSpPr>
        <p:sp>
          <p:nvSpPr>
            <p:cNvPr id="307" name=""/>
            <p:cNvSpPr/>
            <p:nvPr/>
          </p:nvSpPr>
          <p:spPr>
            <a:xfrm>
              <a:off x="7612200" y="4038480"/>
              <a:ext cx="1531800" cy="18284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66360" y="4428000"/>
              <a:ext cx="1130040" cy="8254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244200" y="2362320"/>
            <a:ext cx="690120" cy="2133360"/>
            <a:chOff x="6244200" y="2362320"/>
            <a:chExt cx="690120" cy="2133360"/>
          </a:xfrm>
        </p:grpSpPr>
        <p:sp>
          <p:nvSpPr>
            <p:cNvPr id="310" name=""/>
            <p:cNvSpPr/>
            <p:nvPr/>
          </p:nvSpPr>
          <p:spPr>
            <a:xfrm>
              <a:off x="6248520" y="2362320"/>
              <a:ext cx="685800" cy="21333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5455200">
              <a:off x="5709600" y="3164400"/>
              <a:ext cx="1491480" cy="398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ata Ac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791320" y="36576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714640" y="4191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30481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057400" y="2362320"/>
            <a:ext cx="1143000" cy="3809880"/>
            <a:chOff x="2057400" y="2362320"/>
            <a:chExt cx="1143000" cy="3809880"/>
          </a:xfrm>
        </p:grpSpPr>
        <p:sp>
          <p:nvSpPr>
            <p:cNvPr id="316" name=""/>
            <p:cNvSpPr/>
            <p:nvPr/>
          </p:nvSpPr>
          <p:spPr>
            <a:xfrm>
              <a:off x="2057400" y="2362320"/>
              <a:ext cx="1143000" cy="3809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5400000">
              <a:off x="1672200" y="4026240"/>
              <a:ext cx="1977840" cy="398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Li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200400" y="29718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3124080" y="533412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5257800"/>
            <a:ext cx="15238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924680" y="2209680"/>
            <a:ext cx="1219320" cy="1524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al Networking (Basic Concept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080" y="13366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1600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7120" y="1600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480" y="2784600"/>
            <a:ext cx="154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Human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048120"/>
            <a:ext cx="91440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248520" y="3048120"/>
            <a:ext cx="91440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89548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2040" y="4917960"/>
            <a:ext cx="15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ctiviti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s)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5181480"/>
            <a:ext cx="91440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5181480"/>
            <a:ext cx="91440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502920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534520" y="457200"/>
            <a:ext cx="3808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371600"/>
            <a:ext cx="14479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2819520"/>
            <a:ext cx="144792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952880"/>
            <a:ext cx="1447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76920" y="1371600"/>
            <a:ext cx="1447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38880" y="1371600"/>
            <a:ext cx="14479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15200" y="2743200"/>
            <a:ext cx="14479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15200" y="4876920"/>
            <a:ext cx="144792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3581280"/>
            <a:ext cx="144792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Gro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52880" y="5715000"/>
            <a:ext cx="144792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2.0 Versus Web 1.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3810240" cy="2286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technologies to support client server  model (e.g., Web browsers and web servers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 doc creation and displ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vely dumb clients (web browsers)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4320" y="1219320"/>
            <a:ext cx="32590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1.0  (classical We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10080" y="1143000"/>
            <a:ext cx="311148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2.0 (the new web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2057400"/>
            <a:ext cx="3352680" cy="2590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technologies to support Peer to Peer model (e.g., groupware: email, text messages, chats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s Blogs and Wikis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s Ajax (partial update of HTML docs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Services and SOA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1040" y="4800600"/>
            <a:ext cx="684360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s: combining the two lead to powerful porta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igital communities and cities (combine websites, ecommer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gs, discussion forums, special interest activities, classified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llow page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Blackboard for educational communi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5248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3073320"/>
            <a:ext cx="1676520" cy="1542960"/>
          </a:xfrm>
          <a:prstGeom prst="flowChartProcess">
            <a:avLst/>
          </a:prstGeom>
          <a:gradFill rotWithShape="0">
            <a:gsLst>
              <a:gs pos="0">
                <a:srgbClr val="b2b2b2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"/>
              </a:rPr>
              <a:t>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5578560"/>
            <a:ext cx="3044880" cy="12963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"/>
              </a:rPr>
              <a:t>Decision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"/>
              </a:rPr>
              <a:t>and Planning 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78560" y="4705200"/>
            <a:ext cx="2665440" cy="9082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"/>
              </a:rPr>
              <a:t>News F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3333960"/>
            <a:ext cx="2590920" cy="12963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"/>
              </a:rPr>
              <a:t>Social Net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"/>
              </a:rPr>
              <a:t>Too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1158480"/>
            <a:ext cx="2362320" cy="12963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Univers"/>
              </a:rPr>
              <a:t>How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"/>
              </a:rPr>
              <a:t>Inform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142640" y="3962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19810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505320" y="2666880"/>
            <a:ext cx="3047760" cy="863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3581280" y="4343040"/>
            <a:ext cx="274320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047760" y="4647960"/>
            <a:ext cx="533160" cy="1143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581280" y="3886200"/>
            <a:ext cx="281952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3301920"/>
            <a:ext cx="944640" cy="1179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630840" y="1581840"/>
            <a:ext cx="2513160" cy="168444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Univers"/>
              </a:rPr>
              <a:t>Search capabilities from other port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818640"/>
            <a:ext cx="2895480" cy="12963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"/>
              </a:rPr>
              <a:t>Tutorials/Guides, Case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504960" y="2133720"/>
            <a:ext cx="990360" cy="1066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855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Business Por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3580920" y="4571640"/>
            <a:ext cx="2590920" cy="1219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5772240"/>
            <a:ext cx="2438280" cy="9082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"/>
              </a:rPr>
              <a:t>Outsour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5315040"/>
            <a:ext cx="1676160" cy="1238040"/>
          </a:xfrm>
          <a:prstGeom prst="flowChartProcess">
            <a:avLst/>
          </a:prstGeom>
          <a:gradFill rotWithShape="0">
            <a:gsLst>
              <a:gs pos="0">
                <a:srgbClr val="b2b2b2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"/>
              </a:rPr>
              <a:t>B2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"/>
              </a:rPr>
              <a:t>Market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981080" y="4647960"/>
            <a:ext cx="30492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erprise 2.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cAfee, A.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Enterprise 2.0: The Dawn of Emergent Collaboration”, MIT Sloan Management Review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. 47, No. 3, Spring 2006,  pp. 21-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prise 2.0:  A new wave of business communication tools including blogs, wikis and group messaging software  that allow for more spontaneous, knowledge-based collabor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new tools may supplant other communication and knowledge management syst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erior ability to capture tacit knowledge, best practices and relevant experiences from throughout a 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 them readily available to more us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ew paradigm: SLA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being able to search the Intranet as easily as the Interne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nk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best web pages are invoked more frequently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nyone can write by using Blogs, Wikis, et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XML type tags to categorize things (folksonomy instead of taxonomy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tension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terlinking tags (if you like this book, you should like the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gna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Alerts, events and headlines (RSS feeds with headline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 highly productive and highly collaborative work environments by making both the practices of knowledge work and its outputs more visib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erprise 2.0 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prise 2.0 ground rules for implementing the new technolog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necessary to create a receptive culture in order to prepare the way for new practi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mmon platform must be created to allow for a collaboration infrastructu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nformal rollout of the technologies may be preferred to a more formal procedural chan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rial support and leadership is cruci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Challeng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when implanted and implemented well, these new technologies will certainly bring with them new challeng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tools may well reduce management’s ability to exert unilateral control and to express some level of nega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ther a company’s leaders really want this to happen and will be able to resist the temptation to silence dissent is an open ques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ers will have to play a delicate role if they want Enterprise 2.0 technologies to succe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2.0 – Key Ide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as a platform for providing services (going beyond a document exchange system): Google and  Yahoo provide a web-based service (do not sell a software program). Intelligence of crowds: Many heads are better than one (Wikipedia, Utube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 as a vital resource (large databases of info, lightweight programs, maps &amp; directions, Web min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oftware releases (the eternal Beta – keep system upda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ghtweight programming model: SOA and web component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ML over email or HTTP instead of Web services stack). Example: Amazon’s Web Services (5% used) and simple services – xml over http  (95% us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Issues: privacy, secur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Source: http://www.oreillynet.com/pub/a/oreilly/tim/news/2005/09/30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(Unique) Technolog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jax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ynchronous JavaScript and XM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odification of parts of HTML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efficient, gives realtime look and fe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ML docs are loaded on the client and then modified on client instead of server si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d heavily by Google Ma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variations: M-aj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SS (RDF Site Summary, or Rich Site Summary, or Really Simple Synd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 XML format for distributing content on the We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only used for news item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Web site creates an RSS document and registers the document with an RSS publish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web publisher can post a link to the rss feed so users can read the distributed content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be used by automated agents to read the cont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users can be alerted when the site (links) change 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servi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gs, Wik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lletin Bo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ant Mess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line Mentoring &amp; Support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8T23:06:32Z</dcterms:created>
  <dc:creator>umar</dc:creator>
  <dc:description/>
  <dc:language>en-US</dc:language>
  <cp:lastModifiedBy>aumar</cp:lastModifiedBy>
  <cp:lastPrinted>2001-02-21T15:53:36Z</cp:lastPrinted>
  <dcterms:modified xsi:type="dcterms:W3CDTF">2009-07-20T04:00:40Z</dcterms:modified>
  <cp:revision>239</cp:revision>
  <dc:subject/>
  <dc:title>No Slide Title</dc:title>
</cp:coreProperties>
</file>