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CAMERA.WAV" ContentType="audio/x-wav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EF3F-8833-4D07-B482-237B5CC49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../slides/slide49.xml"/><Relationship Id="rId3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6FA7-7159-4934-8C9F-2BCC82339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4E32-F8E0-4B1D-BB8F-B4AFD3417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13D1-C876-41E9-A726-16CC577F7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385D-B0BF-4EC3-95DB-944F3D166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EE46-47B1-4341-B4FD-0ABAA618C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1D31-0016-4C2A-9013-8DC692F44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Web  Architecture???  Wait for Amjad’s ta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0333-2D8F-4FB3-86FC-ACF9BB72C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80E2-F796-473C-90A2-5A13D984D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Model p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: object state (at field leve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pread around and linked through URL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esent behavi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 HTML/XML  docs as obj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code can access and display differentl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s related to each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s (behaviour) to st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web site ma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cols and mess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access remote obj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PC mechanis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4.0 was re-cast in XML - resulting in XHTML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combine XHTML tags with  any other XML apps (strea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forms - update of forms to be processable by other software(invento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ce profiles -- style sheets for different devices (e.g., araba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us: final stage 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 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phone for listening/talking to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eneration call centers (real Web port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language processing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 mobile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ricted subset of  HTML tag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ce profiles for different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IL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ourse delivery (web, pictures, voi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media in real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in XM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F4AF-E785-46E5-A612-E50945DED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87280" y="698400"/>
            <a:ext cx="4542120" cy="3407040"/>
          </a:xfrm>
          <a:prstGeom prst="rect">
            <a:avLst/>
          </a:prstGeom>
          <a:ln w="0">
            <a:noFill/>
          </a:ln>
        </p:spPr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882720" y="4481640"/>
            <a:ext cx="5076720" cy="382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ally  a data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blin code (DC)  is one of the earliest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wick code is an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NS = XML name space uses prefixes to resolve name confli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usion with RDF schema and XML 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F not that a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ages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ett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zta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SL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 doc contents as programmable obj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izing Dynamic HTM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 hierarchy (node, elements, attribut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 defines standard traversing verbs: next, child, parent,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or (browser) reads XML/HTML into an internal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code (typically Java applet) reads the doc cont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put it into a database, display it differently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use Conn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as much info as possi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Host header to distinguish mycompany.com from yourcomapny.com at the same IP addr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defined caching model for clients and servers to control level of ca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-NG (started in 199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multiplexing of 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HTTP + O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ayer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: old HTTP + CORBA/DCOM/RM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ing: w3ng (more efficient than CORB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: mainly TCP, but could be differ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IDL: Webmethods defined IDL for Web servers in XM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s issue call to Web serv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 translated and handled by HTP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broker: Datachannel built this  (XML representation of remote objects, handled by HTTP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BE19-BBBA-49D1-8248-DF8DA772B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742B-AAA0-4FD3-A25E-3F31E1BB9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C15-19C3-4913-989A-22B5BC6C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F7DB-EE87-4327-AD08-140B005F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76F1-BD7C-4580-9234-1C28876E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121-2900-4502-9B83-5602B0F3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C43C-C63C-4D05-A79A-DA5DFC52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EC8E-5EAF-45F9-B016-CB633D79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1A53-8D0D-46F4-9666-B7BF75A5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914B-BB50-409E-BA59-3FC30F75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BC3D-A70F-4F6F-8D1C-88697CF7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00E4-3AF9-4126-B43E-A8E1F6AA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C11-9354-481B-BC61-C89A91BB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C1A-1E55-4E3E-90A1-145D50A6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BC46-6E79-4C70-BFEB-E8FDB4196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3c.org/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mazon.com/" TargetMode="External"/><Relationship Id="rId2" Type="http://schemas.openxmlformats.org/officeDocument/2006/relationships/hyperlink" Target="http://www.amazon.com/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logicerror.com/n-triple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11430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, XML and Semaantic We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83840" y="537516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source of info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w3c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tutorials: www.w3school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2362320"/>
            <a:ext cx="7772400" cy="2819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240" y="2666880"/>
            <a:ext cx="498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Agen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Technologies Overview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Browsers, Servers &amp; Gateway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 Fami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Web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609040" y="4322880"/>
            <a:ext cx="81000" cy="193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300320" y="3094200"/>
            <a:ext cx="2066760" cy="16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lting Group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our consulting group. You can do the following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about our servic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home pages of the groups we work with (WW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choose the connections by clicking on the follo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r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llowing HTML statements can be used to design this home page (we have inserted appropriate URL's for the hot links)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TITLE&gt;Consulting Group1 &lt;/TIT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H1&gt;Consulting Group1 &lt;/H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P&gt; Welcome to our consulting group. You can do the following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U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LI&gt; Read about our services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LI&gt; Access home pages of the groups we work with (WWW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/U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P&gt; Now choose the connections by clicking on the follow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a href="http://www.myserver.com/services.html"&gt; Our services&lt;/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a href="http://www.w3.org"&gt; WWW Information&lt;/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ing Web Sites by Using MS-Word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507600"/>
            <a:ext cx="9144000" cy="67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tting start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Create a document in MS 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ave it as Web Page. This creates the necessary HTML. To view the HTML, click on ‘view’ on the toolbar and then click on ‘source’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Open the document the web-page through MS-Wo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Edit it, insert pictures, etc as need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To insert a hyperlink, do the following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 click on ‘Insert’ on the tool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click on hyperlink. It will show you a directory. You can link to a page in the directory or link to an outside site (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amazon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describe the text you want to display for the hyper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To modify an existing link, highlight the link, and right click on your mouse. Now choose edit hyperlin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. To view the web pages, invoke them through Internet Explo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 create a web si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a folder, call it my-webs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In this folder, create a home page, call it ‘index’ and save it as a web p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create other pages and save them as page1, page2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Link the pages to each other (from home page to other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test it locally by first invoking the home page and then walking through the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If you want it to be stored for remote use, send me (email) your pages (2-3 to get started) and I will install it on my server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ava and W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is an OO programming language (similar to C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applet is a small program that runs inside a browser (browser acts as a “container”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applets are imbedded in HTML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applets can run on Java compatible brow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applets are downloaded to the Java enabled browsers where they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applets produce graphs/charts, invoking multimedia applications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introduces  security issues (“sandbox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of Java applets unclear due to Sun-Microsoft relationship (macromedia plug-in may be a compet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62520" y="2286000"/>
            <a:ext cx="1447560" cy="251460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2514600"/>
              <a:gd name="textAreaBottom" fmla="*/ 2444040 h 2514600"/>
            </a:gdLst>
            <a:ahLst/>
            <a:rect l="textAreaLeft" t="textAreaTop" r="textAreaRight" b="textAreaBottom"/>
            <a:pathLst>
              <a:path w="21600" h="37518">
                <a:moveTo>
                  <a:pt x="3600" y="0"/>
                </a:moveTo>
                <a:arcTo wR="3600" hR="3600" stAng="16200000" swAng="-5400000"/>
                <a:lnTo>
                  <a:pt x="0" y="33918"/>
                </a:lnTo>
                <a:arcTo wR="3600" hR="3600" stAng="10800000" swAng="-5400000"/>
                <a:lnTo>
                  <a:pt x="18000" y="375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48744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b Architectur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th  Java Appl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3124080"/>
            <a:ext cx="1030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29200" y="29718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83240" y="4121280"/>
            <a:ext cx="2197080" cy="2349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4419720"/>
            <a:ext cx="1136520" cy="679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88080" y="4405320"/>
            <a:ext cx="15544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po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33720" y="2652840"/>
            <a:ext cx="87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85080" y="1662120"/>
            <a:ext cx="1100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2680" y="1447920"/>
            <a:ext cx="690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5680" y="32767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2590920"/>
            <a:ext cx="1752480" cy="205740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057400"/>
              <a:gd name="textAreaBottom" fmla="*/ 1972080 h 2057400"/>
            </a:gdLst>
            <a:ahLst/>
            <a:rect l="textAreaLeft" t="textAreaTop" r="textAreaRight" b="textAreaBottom"/>
            <a:pathLst>
              <a:path w="21600" h="25357">
                <a:moveTo>
                  <a:pt x="3600" y="0"/>
                </a:moveTo>
                <a:arcTo wR="3600" hR="3600" stAng="16200000" swAng="-5400000"/>
                <a:lnTo>
                  <a:pt x="0" y="21757"/>
                </a:lnTo>
                <a:arcTo wR="3600" hR="3600" stAng="10800000" swAng="-5400000"/>
                <a:lnTo>
                  <a:pt x="18000" y="253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2286000"/>
            <a:ext cx="167652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ML Do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37760" y="2438280"/>
            <a:ext cx="902160" cy="69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5600" y="3886200"/>
            <a:ext cx="1146240" cy="69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G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4038480"/>
            <a:ext cx="1600200" cy="6098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Ap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1600200"/>
            <a:ext cx="167616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Ap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105520" y="22096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on HTML Ta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H1&gt; Heading &lt;/H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P&gt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LI&gt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a href="http://www.w3.org"&gt; WWW Information&lt;/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IMG SRC="img001.gif"  WIDTH=480 HEIGHT=360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APPLET CODE=myapplet.class  WIDTH=110 HEIGHT=100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APPLET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beds a Java applet (myapplet)  in HTML p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pplet code has to reside on the same server as HTML pag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FORM ACTION=“/cgi.bin/viewguer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kes a cgi program (viewguery) on th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gi programs are typically written in scripting languages (e.g., PERL) but can be written in any language (C, C++, Java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Browser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owser caching - avoids reloading (can bypass by hitting “Reload” butto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owser request handling - HTTP get, put, post (e.g., send a form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owser response - HTML tag processing, applet invo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owser configuration (fonts, colors, physical appearance, language preference - send “accept-language: French” to server for a response in Frenc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lper applications (e.g., word, PDF, postscript, etc) for different (non-HTML) media types. Represented as MIME (Multipurpose Internet Mail Extensions) typ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for multimedia files (helpers for multimedia instead of extending the brows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owser security - many options to process files. Java security is the main concern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k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365760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ed to maintain HTTP state by Netscape (199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kie created by server and sent to a client as a header, used subsequently (client does not interpret cook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kie kept in browser memory, then written to a file (e.g., shopping ca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 issues with cook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 can control cookies (no cookies, from specific sites only,  for a session onl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cookiecentral.com has a great deal of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84120" y="1108080"/>
            <a:ext cx="927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72680" y="1066680"/>
            <a:ext cx="214668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 Serv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1371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680" y="88740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99960" y="2057400"/>
            <a:ext cx="927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88520" y="2016000"/>
            <a:ext cx="214668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 Serv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2860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57280" y="1828800"/>
            <a:ext cx="28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(set cookie: U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84120" y="3013200"/>
            <a:ext cx="927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9000" y="2971800"/>
            <a:ext cx="214668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 Serv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32767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58720" y="2819520"/>
            <a:ext cx="23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(cookie: U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Spi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engines use spiders to scan the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ders use inverted lists (indexes) for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ders start from the home page of a site and then follow the links (breadth first, depth first) to build an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 is kept locally at search engine site (e.g., altavista) for quick search. Index is updated periodical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sites have a “robot.txt” file that indicates the access rules (e.g., disallow:/cgi-bi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ders return a ranked listing (keyword occurrence). People increase occurrence for higher ranks (use font size zer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lligent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rter than spi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rganize results based on personal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e agents can roam around the net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19760" cy="380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ertext Transfer Protocol (HTT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text Transfer Protocol (HTTP) is an application-level protocol designed for Web us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uses an extremely simple request/response model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connection with the Web server specified  in the UR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ieves (get) or updates (put, post, delete) the needed document  (typically form input, e.g., card 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s the conn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ime you click on a hyperlink, you are initiating an HTTP session (statel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8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467480" cy="685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ers  provide the content for Web us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ers are populated by the content provid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ually: a Web server is a catalog of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ality: a Web server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 software (e..g., Apach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llection of HTML fil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ways to non-HTML resources (CGI, Servlet,,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any cases, a machine is dedicated/designated as a Web server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: content  providers  begin with designated "home pages"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pages include company logo, fancy artwork for attention, special deals, overviews, pointers to additional information, etc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</a:rPr>
              <a:t>USWeb Professional Cert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</a:rPr>
              <a:t>Legacy Systems and the We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42552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ld Wide Web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5440" y="1087560"/>
            <a:ext cx="3125880" cy="57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48120" y="1879560"/>
            <a:ext cx="3235320" cy="1147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orld Wide Web Middle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Web Browsers, Web Server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TTP, HTML, Web Gateway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41520" y="3443400"/>
            <a:ext cx="531180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TP, Telnet, SMTP, SNMP, NFS, and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1520" y="4091040"/>
            <a:ext cx="5311800" cy="622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nsmission Control Protoc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41520" y="4713120"/>
            <a:ext cx="53118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et Protocol (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41720" y="5481720"/>
            <a:ext cx="236844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1240" y="3065400"/>
            <a:ext cx="1809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 Network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19880" y="4083480"/>
            <a:ext cx="221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DP (User Dat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oc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08560" y="1668600"/>
            <a:ext cx="0" cy="176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38760" y="1668600"/>
            <a:ext cx="0" cy="217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3035160"/>
            <a:ext cx="0" cy="40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458200" y="228600"/>
            <a:ext cx="5335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962520" y="2286000"/>
            <a:ext cx="1447560" cy="373392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3733920"/>
              <a:gd name="textAreaBottom" fmla="*/ 3663360 h 3733920"/>
            </a:gdLst>
            <a:ahLst/>
            <a:rect l="textAreaLeft" t="textAreaTop" r="textAreaRight" b="textAreaBottom"/>
            <a:pathLst>
              <a:path w="21600" h="55708">
                <a:moveTo>
                  <a:pt x="3600" y="0"/>
                </a:moveTo>
                <a:arcTo wR="3600" hR="3600" stAng="16200000" swAng="-5400000"/>
                <a:lnTo>
                  <a:pt x="0" y="52108"/>
                </a:lnTo>
                <a:arcTo wR="3600" hR="3600" stAng="10800000" swAng="-5400000"/>
                <a:lnTo>
                  <a:pt x="18000" y="55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8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2640" y="48744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Architectur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 Java App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71800" y="3124080"/>
            <a:ext cx="1030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29718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83240" y="4121280"/>
            <a:ext cx="2197080" cy="2349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4419720"/>
            <a:ext cx="1136520" cy="679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88080" y="4405320"/>
            <a:ext cx="15544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po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33720" y="2652840"/>
            <a:ext cx="87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85080" y="1662120"/>
            <a:ext cx="1100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42680" y="1447920"/>
            <a:ext cx="690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32767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2590920"/>
            <a:ext cx="1752480" cy="205740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057400"/>
              <a:gd name="textAreaBottom" fmla="*/ 1972080 h 2057400"/>
            </a:gdLst>
            <a:ahLst/>
            <a:rect l="textAreaLeft" t="textAreaTop" r="textAreaRight" b="textAreaBottom"/>
            <a:pathLst>
              <a:path w="21600" h="25357">
                <a:moveTo>
                  <a:pt x="3600" y="0"/>
                </a:moveTo>
                <a:arcTo wR="3600" hR="3600" stAng="16200000" swAng="-5400000"/>
                <a:lnTo>
                  <a:pt x="0" y="21757"/>
                </a:lnTo>
                <a:arcTo wR="3600" hR="3600" stAng="10800000" swAng="-5400000"/>
                <a:lnTo>
                  <a:pt x="18000" y="253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2286000"/>
            <a:ext cx="167652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ML Do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37760" y="2438280"/>
            <a:ext cx="902160" cy="69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5600" y="3886200"/>
            <a:ext cx="1146240" cy="69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G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038480"/>
            <a:ext cx="1600200" cy="6098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Ap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62720" y="1600200"/>
            <a:ext cx="167616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Ap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105520" y="22096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44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90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6800" y="220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68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12280" y="5029200"/>
            <a:ext cx="1257480" cy="69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441972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391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teways to non-Web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ateway programs typically run in Web serv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Gateway Interface (CGI)  is used frequent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lets are becoming pop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applets can provide gateway functiona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Relational gateways"  for relational databases from Web browsers are COTS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Web gateways are evolving for Web-based archite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of CGI (Simplified View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0" y="1447560"/>
            <a:ext cx="4572000" cy="4343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GI program (Viewquery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&amp;author, titles from books where author-name=&amp;auth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* convert results to HTML 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ho &lt;HTM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ho 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ho &lt;/body&gt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1143000"/>
            <a:ext cx="19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qu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brow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2057400"/>
            <a:ext cx="16239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ler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5360" y="3124080"/>
            <a:ext cx="374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ML Statement (rough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Form  [Books], [&amp;Autho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on=“/cgi.bin/viewquery, &amp;autho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7720" y="2057400"/>
            <a:ext cx="9594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2400" y="4876920"/>
            <a:ext cx="32576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ler  , J., “Go away”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ler, B., “Come back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352680" y="31237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276360" y="44197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89680" y="8794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7880" y="434340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answer on brows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86200" y="2666880"/>
            <a:ext cx="1828800" cy="2819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819520"/>
              <a:gd name="textAreaBottom" fmla="*/ 2730240 h 2819520"/>
            </a:gdLst>
            <a:ahLst/>
            <a:rect l="textAreaLeft" t="textAreaTop" r="textAreaRight" b="textAreaBottom"/>
            <a:pathLst>
              <a:path w="21600" h="33299">
                <a:moveTo>
                  <a:pt x="3600" y="0"/>
                </a:moveTo>
                <a:arcTo wR="3600" hR="3600" stAng="16200000" swAng="-5400000"/>
                <a:lnTo>
                  <a:pt x="0" y="29699"/>
                </a:lnTo>
                <a:arcTo wR="3600" hR="3600" stAng="10800000" swAng="-5400000"/>
                <a:lnTo>
                  <a:pt x="18000" y="332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6629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629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Ps (Active Server Pag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57400" y="3505320"/>
            <a:ext cx="2021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05520" y="33526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9560" y="4502160"/>
            <a:ext cx="2197080" cy="2349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15000" y="4876920"/>
            <a:ext cx="831960" cy="60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64400" y="4786200"/>
            <a:ext cx="15544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po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90920" y="3733920"/>
            <a:ext cx="87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0680" y="2043000"/>
            <a:ext cx="1100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9000" y="1828800"/>
            <a:ext cx="690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28600" y="5396040"/>
            <a:ext cx="181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95680" y="35053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2971800"/>
            <a:ext cx="1371600" cy="18288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1828800"/>
              <a:gd name="textAreaBottom" fmla="*/ 1761840 h 1828800"/>
            </a:gdLst>
            <a:ahLst/>
            <a:rect l="textAreaLeft" t="textAreaTop" r="textAreaRight" b="textAreaBottom"/>
            <a:pathLst>
              <a:path w="21600" h="28798">
                <a:moveTo>
                  <a:pt x="3600" y="0"/>
                </a:moveTo>
                <a:arcTo wR="3600" hR="3600" stAng="16200000" swAng="-5400000"/>
                <a:lnTo>
                  <a:pt x="0" y="25198"/>
                </a:lnTo>
                <a:arcTo wR="3600" hR="3600" stAng="10800000" swAng="-5400000"/>
                <a:lnTo>
                  <a:pt x="18000" y="287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X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5880" y="2514600"/>
            <a:ext cx="167652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ML Do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13720" y="2819520"/>
            <a:ext cx="902160" cy="69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3320" y="4343400"/>
            <a:ext cx="1830240" cy="69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Ser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ge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7180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05120" y="1523880"/>
            <a:ext cx="2057400" cy="10670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/HTML t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09880" y="2286000"/>
            <a:ext cx="1828800" cy="2819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819520"/>
              <a:gd name="textAreaBottom" fmla="*/ 2730240 h 2819520"/>
            </a:gdLst>
            <a:ahLst/>
            <a:rect l="textAreaLeft" t="textAreaTop" r="textAreaRight" b="textAreaBottom"/>
            <a:pathLst>
              <a:path w="21600" h="33299">
                <a:moveTo>
                  <a:pt x="3600" y="0"/>
                </a:moveTo>
                <a:arcTo wR="3600" hR="3600" stAng="16200000" swAng="-5400000"/>
                <a:lnTo>
                  <a:pt x="0" y="29699"/>
                </a:lnTo>
                <a:arcTo wR="3600" hR="3600" stAng="10800000" swAng="-5400000"/>
                <a:lnTo>
                  <a:pt x="18000" y="332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3124080"/>
            <a:ext cx="2021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29718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83240" y="4121280"/>
            <a:ext cx="2197080" cy="2349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86400" y="4495680"/>
            <a:ext cx="984240" cy="603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88080" y="4405320"/>
            <a:ext cx="15544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po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3352680"/>
            <a:ext cx="87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" y="1662120"/>
            <a:ext cx="1100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42680" y="1447920"/>
            <a:ext cx="690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52640" y="5014800"/>
            <a:ext cx="18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1972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2590920"/>
            <a:ext cx="1371600" cy="18288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1828800"/>
              <a:gd name="textAreaBottom" fmla="*/ 1761840 h 1828800"/>
            </a:gdLst>
            <a:ahLst/>
            <a:rect l="textAreaLeft" t="textAreaTop" r="textAreaRight" b="textAreaBottom"/>
            <a:pathLst>
              <a:path w="21600" h="28798">
                <a:moveTo>
                  <a:pt x="3600" y="0"/>
                </a:moveTo>
                <a:arcTo wR="3600" hR="3600" stAng="16200000" swAng="-5400000"/>
                <a:lnTo>
                  <a:pt x="0" y="25198"/>
                </a:lnTo>
                <a:arcTo wR="3600" hR="3600" stAng="10800000" swAng="-5400000"/>
                <a:lnTo>
                  <a:pt x="18000" y="287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19920" y="2133720"/>
            <a:ext cx="167616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ML Do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37760" y="2438280"/>
            <a:ext cx="902160" cy="69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59640" y="4267080"/>
            <a:ext cx="1455480" cy="69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38480" y="3581280"/>
            <a:ext cx="104652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10240" y="327672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va Servlet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886200" y="2666880"/>
            <a:ext cx="1828800" cy="2819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819520"/>
              <a:gd name="textAreaBottom" fmla="*/ 2730240 h 2819520"/>
            </a:gdLst>
            <a:ahLst/>
            <a:rect l="textAreaLeft" t="textAreaTop" r="textAreaRight" b="textAreaBottom"/>
            <a:pathLst>
              <a:path w="21600" h="33299">
                <a:moveTo>
                  <a:pt x="3600" y="0"/>
                </a:moveTo>
                <a:arcTo wR="3600" hR="3600" stAng="16200000" swAng="-5400000"/>
                <a:lnTo>
                  <a:pt x="0" y="29699"/>
                </a:lnTo>
                <a:arcTo wR="3600" hR="3600" stAng="10800000" swAng="-5400000"/>
                <a:lnTo>
                  <a:pt x="18000" y="332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6629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24080" y="6629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Ps (Active Server Pag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7400" y="3505320"/>
            <a:ext cx="2021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05520" y="33526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59560" y="4502160"/>
            <a:ext cx="2197080" cy="2349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15000" y="4876920"/>
            <a:ext cx="831960" cy="60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64400" y="4786200"/>
            <a:ext cx="15544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po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90920" y="3733920"/>
            <a:ext cx="87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0680" y="2043000"/>
            <a:ext cx="1100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19000" y="1828800"/>
            <a:ext cx="690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28600" y="5396040"/>
            <a:ext cx="181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95680" y="35053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2971800"/>
            <a:ext cx="1371600" cy="18288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1828800"/>
              <a:gd name="textAreaBottom" fmla="*/ 1761840 h 1828800"/>
            </a:gdLst>
            <a:ahLst/>
            <a:rect l="textAreaLeft" t="textAreaTop" r="textAreaRight" b="textAreaBottom"/>
            <a:pathLst>
              <a:path w="21600" h="28798">
                <a:moveTo>
                  <a:pt x="3600" y="0"/>
                </a:moveTo>
                <a:arcTo wR="3600" hR="3600" stAng="16200000" swAng="-5400000"/>
                <a:lnTo>
                  <a:pt x="0" y="25198"/>
                </a:lnTo>
                <a:arcTo wR="3600" hR="3600" stAng="10800000" swAng="-5400000"/>
                <a:lnTo>
                  <a:pt x="18000" y="287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X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2514600"/>
            <a:ext cx="167652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ML Do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3720" y="2819520"/>
            <a:ext cx="902160" cy="69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3320" y="4343400"/>
            <a:ext cx="1830240" cy="69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tive Ser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ge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7180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05120" y="1523880"/>
            <a:ext cx="2057400" cy="10670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/HTML t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rver secur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- are you really Joe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ization - what is Joe authorized to do (read, updat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problem: no state in HTTP. Each request is a separate “session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equest must be authenticated and autho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a user agent captures the user ID and password and passes it to server for every request to a resour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issues in accessing back-end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pass the same password/id to back-end system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issues in web security (e.g., role of prox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910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Security - General Vie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85920" y="5692680"/>
            <a:ext cx="1814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419720" y="1447920"/>
            <a:ext cx="2396880" cy="4343400"/>
            <a:chOff x="4419720" y="1447920"/>
            <a:chExt cx="2396880" cy="4343400"/>
          </a:xfrm>
        </p:grpSpPr>
        <p:sp>
          <p:nvSpPr>
            <p:cNvPr id="310" name=""/>
            <p:cNvSpPr/>
            <p:nvPr/>
          </p:nvSpPr>
          <p:spPr>
            <a:xfrm>
              <a:off x="4749840" y="1447920"/>
              <a:ext cx="2066760" cy="434340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91160" y="2222640"/>
              <a:ext cx="507960" cy="355680"/>
            </a:xfrm>
            <a:prstGeom prst="rect">
              <a:avLst/>
            </a:prstGeom>
            <a:solidFill>
              <a:srgbClr val="dadada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05360" y="1689120"/>
              <a:ext cx="1596960" cy="96516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419720" y="1881360"/>
              <a:ext cx="160632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53680" y="1981440"/>
              <a:ext cx="1351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64600" y="2667240"/>
              <a:ext cx="576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905360" y="3124440"/>
              <a:ext cx="1596960" cy="96516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54040" y="3429000"/>
              <a:ext cx="1287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iddle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05360" y="4572000"/>
              <a:ext cx="1596960" cy="96516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09920" y="4876920"/>
              <a:ext cx="981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40560" y="4114080"/>
              <a:ext cx="576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036800" y="1143000"/>
            <a:ext cx="300168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is needed at different levels of the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t each level fulfills different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ng a certain layer while keeping lower layers unsecured makes system vulnerable to intrusions from the lower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315200" y="4495680"/>
            <a:ext cx="1676520" cy="1067040"/>
          </a:xfrm>
          <a:prstGeom prst="wedgeRoundRectCallout">
            <a:avLst>
              <a:gd name="adj1" fmla="val -76134"/>
              <a:gd name="adj2" fmla="val 33777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93320" y="4495680"/>
            <a:ext cx="15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SEC (VP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ew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238880" y="2895480"/>
            <a:ext cx="1905120" cy="1067040"/>
          </a:xfrm>
          <a:prstGeom prst="wedgeRoundRectCallout">
            <a:avLst>
              <a:gd name="adj1" fmla="val -73000"/>
              <a:gd name="adj2" fmla="val 33777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274520" y="3124080"/>
            <a:ext cx="10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38880" y="1447920"/>
            <a:ext cx="1905120" cy="1066680"/>
          </a:xfrm>
          <a:prstGeom prst="wedgeRoundRectCallout">
            <a:avLst>
              <a:gd name="adj1" fmla="val -73083"/>
              <a:gd name="adj2" fmla="val 26638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61200" y="1447920"/>
            <a:ext cx="188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va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4760" y="6221520"/>
            <a:ext cx="75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ion  -- Authorization -- Privacy - integrity - Non Repu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Server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dr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as a singl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s requests one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very slow (access a back-end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-driv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cess per request (us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handle several users simultane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a master process listens for requests and invokes a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rocesses can increase with number of us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 archite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servers on a single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olving Web Architectur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38480" y="2895480"/>
            <a:ext cx="1541520" cy="353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95280" y="2700360"/>
            <a:ext cx="1685880" cy="195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333440" y="1752480"/>
            <a:ext cx="6579720" cy="2217600"/>
            <a:chOff x="1333440" y="1752480"/>
            <a:chExt cx="6579720" cy="2217600"/>
          </a:xfrm>
        </p:grpSpPr>
        <p:sp>
          <p:nvSpPr>
            <p:cNvPr id="335" name=""/>
            <p:cNvSpPr/>
            <p:nvPr/>
          </p:nvSpPr>
          <p:spPr>
            <a:xfrm>
              <a:off x="6227280" y="2590560"/>
              <a:ext cx="1685880" cy="1122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TML Do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030120" y="3182760"/>
              <a:ext cx="10299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59240" y="3188880"/>
              <a:ext cx="96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09960" y="2666880"/>
              <a:ext cx="941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60600" y="2819160"/>
              <a:ext cx="1249920" cy="8204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T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play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33440" y="1752480"/>
              <a:ext cx="12146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b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row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75200" y="1828440"/>
              <a:ext cx="757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27840" y="2971440"/>
              <a:ext cx="978480" cy="8204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33280" y="36781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700520" y="38307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81640" y="4329000"/>
            <a:ext cx="744480" cy="819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GI, ASP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264280" y="4654440"/>
            <a:ext cx="984240" cy="29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56440" y="3948120"/>
            <a:ext cx="723960" cy="454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70680" y="5319720"/>
            <a:ext cx="978480" cy="8204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21080" y="4349880"/>
            <a:ext cx="1663560" cy="1130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5264280" y="5410080"/>
            <a:ext cx="1060200" cy="387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72920" y="4794120"/>
            <a:ext cx="257760" cy="454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8520" y="4038480"/>
            <a:ext cx="2666880" cy="243216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4495680"/>
            <a:ext cx="1905120" cy="15519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o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01640" y="4672080"/>
            <a:ext cx="1270080" cy="1917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pplicat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57400" y="5715000"/>
            <a:ext cx="2133720" cy="76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37339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973240" y="4114800"/>
            <a:ext cx="24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48744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eps in a Web Interac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19040" y="2685960"/>
            <a:ext cx="1729080" cy="363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24600" y="2873520"/>
            <a:ext cx="1533600" cy="3450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2819520"/>
            <a:ext cx="1030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0720" y="2971800"/>
            <a:ext cx="78948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1676520"/>
            <a:ext cx="121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09200" y="1828800"/>
            <a:ext cx="978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52640" y="5014800"/>
            <a:ext cx="180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6880" y="2514600"/>
            <a:ext cx="69120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30080" y="24382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35053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7200" y="3048120"/>
            <a:ext cx="21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TCP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44197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8280" y="3962520"/>
            <a:ext cx="19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HTTP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047760" y="53341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7560" y="495288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HTTP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0760" y="43434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et, 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86200" y="2362320"/>
            <a:ext cx="1447920" cy="396216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3962160"/>
              <a:gd name="textAreaBottom" fmla="*/ 3891600 h 3962160"/>
            </a:gdLst>
            <a:ahLst/>
            <a:rect l="textAreaLeft" t="textAreaTop" r="textAreaRight" b="textAreaBottom"/>
            <a:pathLst>
              <a:path w="21600" h="59098">
                <a:moveTo>
                  <a:pt x="3600" y="0"/>
                </a:moveTo>
                <a:arcTo wR="3600" hR="3600" stAng="16200000" swAng="-5400000"/>
                <a:lnTo>
                  <a:pt x="0" y="55498"/>
                </a:lnTo>
                <a:arcTo wR="3600" hR="3600" stAng="10800000" swAng="-5400000"/>
                <a:lnTo>
                  <a:pt x="18000" y="590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96080" cy="761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Prox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629400" y="2590920"/>
            <a:ext cx="1685880" cy="112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0" y="28954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86400" y="3200400"/>
            <a:ext cx="961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19800" y="2438280"/>
            <a:ext cx="1100520" cy="69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13000" y="3657600"/>
            <a:ext cx="833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4120" y="49528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21080" y="4343400"/>
            <a:ext cx="1288800" cy="6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74560" y="4419720"/>
            <a:ext cx="1293840" cy="698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14400" y="5257800"/>
            <a:ext cx="1270080" cy="1003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62320" y="5791320"/>
            <a:ext cx="1523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19800" y="3809880"/>
            <a:ext cx="1100520" cy="69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128320" y="990720"/>
            <a:ext cx="615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xies sit between clients and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 as a server to client and vice 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for security, workload balanc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077320" cy="11430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xt Generation Web and XM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219320" y="2057040"/>
            <a:ext cx="6781680" cy="297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Generati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and other markup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ing the We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urce Description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object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xt Generation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5438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develop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idea: expanding the scope from human interactions to machine inte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ML  to XML : exchange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 to  HTTP-NG: State handl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programmabilit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remote ob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view (Document Object Mode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s (detailed programmability, digital signatu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: www.w3.or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962520" y="2286000"/>
            <a:ext cx="1447560" cy="251460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2514600"/>
              <a:gd name="textAreaBottom" fmla="*/ 2444040 h 2514600"/>
            </a:gdLst>
            <a:ahLst/>
            <a:rect l="textAreaLeft" t="textAreaTop" r="textAreaRight" b="textAreaBottom"/>
            <a:pathLst>
              <a:path w="21600" h="37518">
                <a:moveTo>
                  <a:pt x="3600" y="0"/>
                </a:moveTo>
                <a:arcTo wR="3600" hR="3600" stAng="16200000" swAng="-5400000"/>
                <a:lnTo>
                  <a:pt x="0" y="33918"/>
                </a:lnTo>
                <a:arcTo wR="3600" hR="3600" stAng="10800000" swAng="-5400000"/>
                <a:lnTo>
                  <a:pt x="18000" y="375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8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42640" y="48744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Generation Web Architectur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HTML, HTTP, CGI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3048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05520" y="29718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83240" y="4121280"/>
            <a:ext cx="2197080" cy="2349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81480" y="4343400"/>
            <a:ext cx="1289160" cy="755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688080" y="4405320"/>
            <a:ext cx="15544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po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33720" y="2576520"/>
            <a:ext cx="87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85080" y="1662120"/>
            <a:ext cx="1100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2680" y="1447920"/>
            <a:ext cx="690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52640" y="5014800"/>
            <a:ext cx="18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95680" y="32767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00200" y="2438280"/>
            <a:ext cx="1371600" cy="16002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1600200"/>
              <a:gd name="textAreaBottom" fmla="*/ 1533240 h 1600200"/>
            </a:gdLst>
            <a:ahLst/>
            <a:rect l="textAreaLeft" t="textAreaTop" r="textAreaRight" b="textAreaBottom"/>
            <a:pathLst>
              <a:path w="21600" h="25199">
                <a:moveTo>
                  <a:pt x="3600" y="0"/>
                </a:moveTo>
                <a:arcTo wR="3600" hR="3600" stAng="16200000" swAng="-5400000"/>
                <a:lnTo>
                  <a:pt x="0" y="21599"/>
                </a:lnTo>
                <a:arcTo wR="3600" hR="3600" stAng="10800000" swAng="-5400000"/>
                <a:lnTo>
                  <a:pt x="18000" y="251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19920" y="2133720"/>
            <a:ext cx="167616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ML Do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3720" y="2438280"/>
            <a:ext cx="902160" cy="69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35600" y="3886200"/>
            <a:ext cx="1146240" cy="69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G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" y="4270320"/>
            <a:ext cx="508644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/limi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ited for simple vie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ktop display ori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GI sc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 state 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Generation Web attempts to address th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d view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ori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50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xt Generation Web Model -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ey Play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49680" y="1981080"/>
            <a:ext cx="41871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identification of fie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124080"/>
            <a:ext cx="3352680" cy="174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urce Description Framework (RD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 and Data Type 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36360" y="3505320"/>
            <a:ext cx="463068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 Object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 and Behavior Attach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666880" y="5334120"/>
            <a:ext cx="3962520" cy="101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ocols and Mess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-IDL, HTTP-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8229600" y="13716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12952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3C Web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85760" y="3559320"/>
            <a:ext cx="67057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 rot="5400000">
            <a:off x="620280" y="2098800"/>
            <a:ext cx="19814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5400000">
            <a:off x="1649520" y="2174760"/>
            <a:ext cx="19810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 rot="5400000">
            <a:off x="2521800" y="1998000"/>
            <a:ext cx="1981080" cy="73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V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cal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 Graphi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rot="5400000">
            <a:off x="3535200" y="2117880"/>
            <a:ext cx="19814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89520" y="2438280"/>
            <a:ext cx="28173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work (RD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42880" y="1411200"/>
            <a:ext cx="671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953960" y="1428840"/>
            <a:ext cx="8236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00040" y="1447920"/>
            <a:ext cx="98856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58480" y="4267080"/>
            <a:ext cx="684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S: Platform for Internet Content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P: Platform for privacy p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IL: Synchronous Multimedia Interaction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: Document Object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7800" y="2070000"/>
            <a:ext cx="941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783200" y="2127240"/>
            <a:ext cx="89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5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ons for Vie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HTML - Combines XML and HT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e browsers (workshop 1998) - voice markup langu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 mobile access (Workshop 1998) - working closely with W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ed multimedia integration language (SMIL) for present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1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6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ML (eXtensible Markup Languag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ining importance for common data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r” than SGML (subset of SG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“general” tha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USTOM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Joe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DDRESS&gt; NY &lt;/ADDRES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CUSTOM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deal of activity in Ecommerce (competition to EDI), messaging middleware, data transform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anagement, publishing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: How is it u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browsers support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replacement for EDI (Electronic Data Interchan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I: XML Metadata Interchange, used to exchange UML models between vendor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WM: Common Warehouse Metadata (Oracle + 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used in place of SGML because of its “lightnes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to application message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ztalk, Rosettanet, eb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3276720" y="2743200"/>
            <a:ext cx="2514600" cy="1981080"/>
          </a:xfrm>
          <a:prstGeom prst="hexagon">
            <a:avLst>
              <a:gd name="adj" fmla="val 31733"/>
              <a:gd name="vf" fmla="val 11547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Famil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7200" y="3200400"/>
            <a:ext cx="128268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xtensi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u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gu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52280" y="2362320"/>
            <a:ext cx="2363760" cy="1739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ri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ML (wirel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L (vo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th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87080" y="1444680"/>
            <a:ext cx="131292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2000" y="5105520"/>
            <a:ext cx="2665080" cy="146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eatures of 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 Path (point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ic sections of doc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72520" y="3809880"/>
            <a:ext cx="114228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66320" y="5486400"/>
            <a:ext cx="210384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ma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Repres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56640" y="1216080"/>
            <a:ext cx="158904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Validati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5486400" y="2286000"/>
            <a:ext cx="10666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441972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05520" y="480060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2209680" y="426708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4038480"/>
            <a:ext cx="1600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266652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477120" y="1371600"/>
            <a:ext cx="236196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48744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362320"/>
            <a:ext cx="1524240" cy="195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1752480"/>
            <a:ext cx="1828800" cy="32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962520"/>
            <a:ext cx="236232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6668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24382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58920" y="4191120"/>
            <a:ext cx="1315440" cy="6987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7920" y="266688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1676520"/>
            <a:ext cx="1905120" cy="16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 Do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view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n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men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ds.htm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5400" y="2895480"/>
            <a:ext cx="1045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990720"/>
            <a:ext cx="25146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othes.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6320" y="2133720"/>
            <a:ext cx="847440" cy="6987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28954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67652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l: http://clothes.com/overview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stomer Record in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?xml version=“1.0” standalone=“yes”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ustom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irs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ja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firs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las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m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las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tree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CC-1C337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stree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tree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45 South Stre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stree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ity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rristow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city&gt;&lt;stat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J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st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zip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796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zi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hon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73-829-311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ph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custom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13840" y="1523880"/>
            <a:ext cx="11714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20160" y="3048120"/>
            <a:ext cx="7887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57320" y="4191120"/>
            <a:ext cx="6469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82280" y="4114800"/>
            <a:ext cx="6181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90160" y="2971800"/>
            <a:ext cx="10173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9480" y="4114800"/>
            <a:ext cx="7736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54080" y="4038480"/>
            <a:ext cx="6181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25680" y="4038480"/>
            <a:ext cx="688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016040" y="4038480"/>
            <a:ext cx="5342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624800" y="2895480"/>
            <a:ext cx="8193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1371240" y="1981080"/>
            <a:ext cx="289548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267080" y="1981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67080" y="1981080"/>
            <a:ext cx="3733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57200" y="35053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95280" y="35053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3429000" y="33526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267080" y="335268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343400" y="335268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19720" y="3352680"/>
            <a:ext cx="2819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-formed versus Vali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ell-Formed Docu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heres to the syntactic rules defined by the XML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Tags are delimited by &lt; and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alid Docu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well-formed document that also adheres to the rules of a specified Document Type Definition (DT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s a set of rules for the structure of the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324480" y="4724280"/>
            <a:ext cx="855720" cy="9716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1071360" y="4648320"/>
            <a:ext cx="135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ll-for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354120" y="5943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241040" y="510552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4267080" y="4495680"/>
            <a:ext cx="990720" cy="7066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2438280" y="4419720"/>
            <a:ext cx="746280" cy="89352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4"/>
          <a:stretch/>
        </p:blipFill>
        <p:spPr>
          <a:xfrm>
            <a:off x="3962520" y="5638680"/>
            <a:ext cx="728640" cy="839880"/>
          </a:xfrm>
          <a:prstGeom prst="rect">
            <a:avLst/>
          </a:prstGeom>
          <a:ln w="0">
            <a:noFill/>
          </a:ln>
        </p:spPr>
      </p:pic>
      <p:cxnSp>
        <p:nvCxnSpPr>
          <p:cNvPr id="468" name=""/>
          <p:cNvCxnSpPr>
            <a:stCxn id="466" idx="3"/>
            <a:endCxn id="465" idx="1"/>
          </p:cNvCxnSpPr>
          <p:nvPr/>
        </p:nvCxnSpPr>
        <p:spPr>
          <a:xfrm flipV="1">
            <a:off x="3184200" y="4849560"/>
            <a:ext cx="1083240" cy="180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67" idx="0"/>
            <a:endCxn id="465" idx="2"/>
          </p:cNvCxnSpPr>
          <p:nvPr/>
        </p:nvCxnSpPr>
        <p:spPr>
          <a:xfrm flipV="1">
            <a:off x="4327560" y="5202000"/>
            <a:ext cx="435600" cy="4370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5" idx="3"/>
            <a:endCxn id="461" idx="1"/>
          </p:cNvCxnSpPr>
          <p:nvPr/>
        </p:nvCxnSpPr>
        <p:spPr>
          <a:xfrm>
            <a:off x="5257440" y="4849560"/>
            <a:ext cx="1067400" cy="361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TD for a Custo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ELE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name, address?, phone?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ATTLI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d CDATA #REQUIRE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ELE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first, middle?, last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ELE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street+, city, state, zip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ELE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#PCDATA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ELE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#PCDATA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ELE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dd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#PCDATA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ELE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#PCDATA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ELE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#PCDATA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ELE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#PCDATA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ELE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#PCDATA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ELE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#PCDATA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e can save this into a file called customer.d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PCDATA cannot have XML t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id XML doc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?xml version=“1.0” standalone=“no”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!DOCTYPE customer SYSTEM “customer.dt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ustomer id=“12345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irst&gt;Amjad&lt;/firs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last&gt;Umar&lt;/las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tree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CC-1C337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stree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tree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45 South Stre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stree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ity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rristow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city&gt;&lt;stat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J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st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zip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796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zi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hon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73-829-311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ph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custom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formed bu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 XML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?xml version=“1.0” standalone=“no”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!DOCTYPE customer SYSTEM “customer.dt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oo1 id=“12345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oo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oo3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ja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foo3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oo4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m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foo4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foo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oo5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oo6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CC-1C337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foo6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oo7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45 South Stre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foo7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oo8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rristow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foo8&gt;&lt;foo9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J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foo9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oo10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796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foo10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foo5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oo11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73-829-311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foo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foo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: What is it composed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and sub-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represent special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s begin with &lt;!-- and end with --&gt;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cape hatch to provide information to an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ATA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cts the parser to ignore most markup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Type Declarations (DT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d in SGML, optional in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: What is it composed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D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a document to communicate meta-information to parser about its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D’s cont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 Type Decla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y names of elements and nature of their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!ELEMENT customer (name, address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!ELEMENT address (type, street+, city, state, zip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 List Decla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y which elements may have attributes, what attributes they may have, what values the attributes may hold, and what value is the de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ity Decla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 you to associate a name with some other fragment of 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228600" y="2666880"/>
            <a:ext cx="1600200" cy="12193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S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4920" y="2666880"/>
            <a:ext cx="145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743200" y="2666880"/>
            <a:ext cx="1600200" cy="129564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2666880"/>
            <a:ext cx="145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yle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413320" y="1268280"/>
            <a:ext cx="117288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391520" y="1066680"/>
            <a:ext cx="1600200" cy="106704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620120" y="1066680"/>
            <a:ext cx="14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484960" y="3048120"/>
            <a:ext cx="117288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462800" y="2846520"/>
            <a:ext cx="1600200" cy="119196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691400" y="2846520"/>
            <a:ext cx="14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7360" y="4697280"/>
            <a:ext cx="117288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315200" y="4343400"/>
            <a:ext cx="1600200" cy="9907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543800" y="4495680"/>
            <a:ext cx="14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8288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34340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5257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95288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5308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6294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29400" y="1600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71800" y="4876920"/>
            <a:ext cx="1600200" cy="114300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00400" y="4876920"/>
            <a:ext cx="145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yle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3429000"/>
            <a:ext cx="19047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84720" y="5867280"/>
            <a:ext cx="117288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238880" y="5715000"/>
            <a:ext cx="1600200" cy="9907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391520" y="5665680"/>
            <a:ext cx="14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343400" y="5867280"/>
            <a:ext cx="838080" cy="56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627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4640" y="4019400"/>
            <a:ext cx="325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xs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ru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arget-element type=customer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hildren/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rule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xs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-13680" y="685800"/>
            <a:ext cx="517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o run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:\&gt;xt customer.xml transform.xsl customer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4038480" y="3048120"/>
            <a:ext cx="152424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Specification is at the Center of EComme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42680" y="1063800"/>
            <a:ext cx="1683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S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zTalk (&gt;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AG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066680" y="2286000"/>
            <a:ext cx="1524240" cy="1371600"/>
          </a:xfrm>
          <a:prstGeom prst="bevel">
            <a:avLst>
              <a:gd name="adj" fmla="val 12500"/>
            </a:avLst>
          </a:prstGeom>
          <a:solidFill>
            <a:srgbClr val="96fe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96720" y="3809880"/>
            <a:ext cx="2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934320" y="3124080"/>
            <a:ext cx="990360" cy="762120"/>
          </a:xfrm>
          <a:prstGeom prst="hexagon">
            <a:avLst>
              <a:gd name="adj" fmla="val 32487"/>
              <a:gd name="vf" fmla="val 115470"/>
            </a:avLst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935400" y="3962520"/>
            <a:ext cx="88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yer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276720" y="5410080"/>
            <a:ext cx="1143000" cy="68580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649760" y="55389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0" y="457200"/>
            <a:ext cx="685800" cy="838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172200" y="129528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idation/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743200" y="3124080"/>
            <a:ext cx="1295280" cy="381240"/>
          </a:xfrm>
          <a:prstGeom prst="leftArrow">
            <a:avLst>
              <a:gd name="adj1" fmla="val 50000"/>
              <a:gd name="adj2" fmla="val 849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562720" y="3276720"/>
            <a:ext cx="1295280" cy="380880"/>
          </a:xfrm>
          <a:prstGeom prst="leftArrow">
            <a:avLst>
              <a:gd name="adj1" fmla="val 50000"/>
              <a:gd name="adj2" fmla="val 850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3766200">
            <a:off x="3878280" y="2192040"/>
            <a:ext cx="990720" cy="380880"/>
          </a:xfrm>
          <a:prstGeom prst="leftArrow">
            <a:avLst>
              <a:gd name="adj1" fmla="val 50000"/>
              <a:gd name="adj2" fmla="val 650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7712400">
            <a:off x="5029200" y="2285640"/>
            <a:ext cx="1295280" cy="380880"/>
          </a:xfrm>
          <a:prstGeom prst="leftArrow">
            <a:avLst>
              <a:gd name="adj1" fmla="val 50000"/>
              <a:gd name="adj2" fmla="val 850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rot="7110000">
            <a:off x="3657240" y="4495320"/>
            <a:ext cx="1295640" cy="380520"/>
          </a:xfrm>
          <a:prstGeom prst="leftArrow">
            <a:avLst>
              <a:gd name="adj1" fmla="val 50000"/>
              <a:gd name="adj2" fmla="val 851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4492800"/>
            <a:ext cx="1843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429000" y="1066680"/>
            <a:ext cx="609480" cy="838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620120" cy="609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b Browsers (Client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browsers are clients designed to display information prepared in a markup language, known as HTM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Web browsers (Netscape, Microsof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browser uses  HTTP to fetch the needed document from an appropriate Web serv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 compliance is a basic requirement for Web brow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browsers are relatively dumb (they just pass user requests to Web servers and display the res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914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ource Description Fra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: provide mea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RDF statement is a lot like a simple sentence, except that almost all the words are UR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RDF statement has three parts: a subject, a predicate and an objec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mar likes  friends     (could mean anything by friends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DF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http://www.amjadumar.com/&gt; &lt;http://love.example.org/terms/Likes&gt; &lt;http://www.TVGuide.com/Programs/Friends&gt;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atement above is written in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N-Tripl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 language that allows you to write simple RDF statements. The official RDF specification is a bit more complicated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Name conflicts resolved through XML Namesp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DF can be used for sitemaps, privacy practices,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igital signatures, device characteristics, et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ument Objec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M attaches behavior to Web documen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 documents viewed as ob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O API for accessing Web docu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 HTML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13840" y="1523880"/>
            <a:ext cx="11714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920160" y="3048120"/>
            <a:ext cx="7887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7320" y="4191120"/>
            <a:ext cx="6469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682280" y="4114800"/>
            <a:ext cx="6181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90160" y="2971800"/>
            <a:ext cx="10173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9480" y="4114800"/>
            <a:ext cx="7736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654080" y="4038480"/>
            <a:ext cx="6181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25680" y="4038480"/>
            <a:ext cx="688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016040" y="4038480"/>
            <a:ext cx="5342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624800" y="2895480"/>
            <a:ext cx="8193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1600200" y="1981080"/>
            <a:ext cx="266688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67080" y="1981080"/>
            <a:ext cx="37339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457200" y="35053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95280" y="35053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3429000" y="33526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7080" y="335268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3400" y="335268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419720" y="3352680"/>
            <a:ext cx="281916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48480" y="11080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2514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329360" y="25560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758360" y="24796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54080" y="45720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14760" y="44607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62680" y="44607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786560" y="43848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45400" y="4114800"/>
            <a:ext cx="84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148880" y="43084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16120" y="5181480"/>
            <a:ext cx="83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e bidirectional arrow indicates a parent-child relationsh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38360" y="5832360"/>
            <a:ext cx="62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may have: value, child, parent, sib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 provides methods for the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TP Improvement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 1.1 (with IETF) - Improve HT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 conne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virtual hosting (multiple DNS names to same IP add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phisticated caching (control of what is cached how mu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-NG (with Xerox)- Rethinking HTTP from scr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as objects with IDL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weight OO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lay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fforts:  Web IDL, Web Brok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7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0" dur="5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1" dur="500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4" dur="500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7" dur="500"/>
                                        <p:tgtEl>
                                          <p:spTgt spid="5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2" dur="500"/>
                                        <p:tgtEl>
                                          <p:spTgt spid="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8229600" y="13716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62120" y="12952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3C Web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085760" y="3559320"/>
            <a:ext cx="67057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 rot="5400000">
            <a:off x="620280" y="2098800"/>
            <a:ext cx="19814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rot="5400000">
            <a:off x="1649520" y="2174760"/>
            <a:ext cx="19810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rot="5400000">
            <a:off x="2521800" y="1998000"/>
            <a:ext cx="1981080" cy="73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V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cal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 Graphi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 rot="5400000">
            <a:off x="3535200" y="2117880"/>
            <a:ext cx="19814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889520" y="2438280"/>
            <a:ext cx="28173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work (RD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42880" y="1411200"/>
            <a:ext cx="671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953960" y="1428840"/>
            <a:ext cx="8236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00040" y="1447920"/>
            <a:ext cx="98856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158480" y="4267080"/>
            <a:ext cx="684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S: Platform for Internet Content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P: Platform for privacy p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IL: Synchronous Multimedia Interaction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: Document Object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97800" y="2070000"/>
            <a:ext cx="941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783200" y="2127240"/>
            <a:ext cx="89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9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4" dur="5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9" dur="5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ding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and Web are foundation of E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components of Web (HTML, HTTP, Browsers, Serv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is proceeding in several dir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discussed tw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ing human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auto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: will Web become too compl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w3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Internet Computing, January 199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62520" y="2286000"/>
            <a:ext cx="1447560" cy="251460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2514600"/>
              <a:gd name="textAreaBottom" fmla="*/ 2444040 h 2514600"/>
            </a:gdLst>
            <a:ahLst/>
            <a:rect l="textAreaLeft" t="textAreaTop" r="textAreaRight" b="textAreaBottom"/>
            <a:pathLst>
              <a:path w="21600" h="37518">
                <a:moveTo>
                  <a:pt x="3600" y="0"/>
                </a:moveTo>
                <a:arcTo wR="3600" hR="3600" stAng="16200000" swAng="-5400000"/>
                <a:lnTo>
                  <a:pt x="0" y="33918"/>
                </a:lnTo>
                <a:arcTo wR="3600" hR="3600" stAng="10800000" swAng="-5400000"/>
                <a:lnTo>
                  <a:pt x="18000" y="375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48744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Generation Web Architectur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HTML, HTTP, CGI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3048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29718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83240" y="4121280"/>
            <a:ext cx="2197080" cy="2349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4343400"/>
            <a:ext cx="1212840" cy="755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78440" y="4343400"/>
            <a:ext cx="15544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po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Non-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33720" y="2576520"/>
            <a:ext cx="87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85080" y="1662120"/>
            <a:ext cx="1100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2680" y="1447920"/>
            <a:ext cx="690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52640" y="5014800"/>
            <a:ext cx="18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276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8720" y="5119560"/>
            <a:ext cx="38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GI = common gateway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s in /cgi.bi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2590920"/>
            <a:ext cx="1371600" cy="18288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1828800"/>
              <a:gd name="textAreaBottom" fmla="*/ 1761840 h 1828800"/>
            </a:gdLst>
            <a:ahLst/>
            <a:rect l="textAreaLeft" t="textAreaTop" r="textAreaRight" b="textAreaBottom"/>
            <a:pathLst>
              <a:path w="21600" h="28798">
                <a:moveTo>
                  <a:pt x="3600" y="0"/>
                </a:moveTo>
                <a:arcTo wR="3600" hR="3600" stAng="16200000" swAng="-5400000"/>
                <a:lnTo>
                  <a:pt x="0" y="25198"/>
                </a:lnTo>
                <a:arcTo wR="3600" hR="3600" stAng="10800000" swAng="-5400000"/>
                <a:lnTo>
                  <a:pt x="18000" y="287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2133720"/>
            <a:ext cx="167616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ML Do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Web Cont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3720" y="2438280"/>
            <a:ext cx="902160" cy="69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11560" y="3733920"/>
            <a:ext cx="1146240" cy="100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G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48360" y="236232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4480" y="54864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124080" y="2286000"/>
            <a:ext cx="2286000" cy="297180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971800"/>
              <a:gd name="textAreaBottom" fmla="*/ 2860200 h 2971800"/>
            </a:gdLst>
            <a:ahLst/>
            <a:rect l="textAreaLeft" t="textAreaTop" r="textAreaRight" b="textAreaBottom"/>
            <a:pathLst>
              <a:path w="21600" h="28079">
                <a:moveTo>
                  <a:pt x="3600" y="0"/>
                </a:moveTo>
                <a:arcTo wR="3600" hR="3600" stAng="16200000" swAng="-5400000"/>
                <a:lnTo>
                  <a:pt x="0" y="24479"/>
                </a:lnTo>
                <a:arcTo wR="3600" hR="3600" stAng="10800000" swAng="-5400000"/>
                <a:lnTo>
                  <a:pt x="18000" y="280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48744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Generation Web Architectur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HTML, HTTP, CGI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30481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9718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83240" y="4121280"/>
            <a:ext cx="2197080" cy="2349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4343400"/>
            <a:ext cx="1060560" cy="755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78440" y="4343400"/>
            <a:ext cx="15544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po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Non-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2590920"/>
            <a:ext cx="87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2080" y="1738440"/>
            <a:ext cx="1100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2680" y="1447920"/>
            <a:ext cx="690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52640" y="5014800"/>
            <a:ext cx="18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3200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666880"/>
            <a:ext cx="1371600" cy="18288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1828800"/>
              <a:gd name="textAreaBottom" fmla="*/ 1761840 h 1828800"/>
            </a:gdLst>
            <a:ahLst/>
            <a:rect l="textAreaLeft" t="textAreaTop" r="textAreaRight" b="textAreaBottom"/>
            <a:pathLst>
              <a:path w="21600" h="28798">
                <a:moveTo>
                  <a:pt x="3600" y="0"/>
                </a:moveTo>
                <a:arcTo wR="3600" hR="3600" stAng="16200000" swAng="-5400000"/>
                <a:lnTo>
                  <a:pt x="0" y="25198"/>
                </a:lnTo>
                <a:arcTo wR="3600" hR="3600" stAng="10800000" swAng="-5400000"/>
                <a:lnTo>
                  <a:pt x="18000" y="287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2133720"/>
            <a:ext cx="167616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ML Do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Web Cont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2438280"/>
            <a:ext cx="1280880" cy="69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0560" y="3657600"/>
            <a:ext cx="663120" cy="393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48360" y="24112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3760" y="553572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7560" y="3657600"/>
            <a:ext cx="663120" cy="393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3200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191120"/>
            <a:ext cx="83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0800" y="4191120"/>
            <a:ext cx="6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-22896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ting Up Business on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380520"/>
            <a:ext cx="87631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ting a domain na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allwhois.com - searches for desired name and contact info if name is ta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networksolutions.com - purchase a domain name (roughly $35 per yea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up a web site (can outsource to Web hosters: www.w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pping cart: can build or outsource (ecommerce.about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ment System through Credit Cards (how do I get pai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card processing  (www.cybercash.co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 merchant account to transfer money into  (Banks, cybercash, authorize.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ment systems through other means (beyond the scope of this t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ks - EFT, letter of credit, 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 order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uy ecommerce platforms (e.g., IBM Websphere, Oracle Ecommerce Platform, Microsoft EC Site Server,,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outsource the entire process: www.webhostdir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" dur="5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" dur="5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" dur="5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ertext Markup Language (HT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 to use language that tags the text files for display at Web brow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helps in creation of hypertext links (called hyperlin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links contain URLs for the needed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is not WYSIWY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contains  instructions for highlights, bullets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documents can be created in text or through HTML editors (can be saved as from Word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ers available to convert word processing documents to HTML (e.g., Word, Framemak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onvert database information to HT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8T23:06:32Z</dcterms:created>
  <dc:creator>umar</dc:creator>
  <dc:description/>
  <dc:language>en-US</dc:language>
  <cp:lastModifiedBy>aumar</cp:lastModifiedBy>
  <cp:lastPrinted>2001-02-21T15:53:36Z</cp:lastPrinted>
  <dcterms:modified xsi:type="dcterms:W3CDTF">2009-07-20T03:54:39Z</dcterms:modified>
  <cp:revision>254</cp:revision>
  <dc:subject/>
  <dc:title>No Slide Title</dc:title>
</cp:coreProperties>
</file>