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1.wmf" ContentType="image/x-wmf"/>
  <Override PartName="/ppt/media/image15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A646-A635-4F36-945D-E250D660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43CA-85A7-4555-9133-87587E647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4D16-18FF-4599-806B-A3A981C3F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3AD4-73D1-409B-BDCB-331C6CB4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odel consist of HTML, HTTP, Sever, CG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IP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tay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s to support on SNA, Novell IPX/SPX gone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very document centr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more towards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286B-4B59-4361-A2F7-7DDF9494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odel consist of HTML, HTTP, Sever, CG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IP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tay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s to support on SNA, Novell IPX/SPX gone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very document centr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more towards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3A2B-75DA-4A2F-9389-332E03F47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942E-35C1-4157-A7DB-7B32306E4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3B6E-70CE-4909-90DB-0E607F206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SOA enabled tdoman manag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Multimedia systems (IM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a litearture on NG Telecos,  IMS , soa enabled domani manage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921E-E0A1-43B9-BAA7-08AB00949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9B77-92A2-4E57-9D9F-AB9ECDB19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977-2430-4298-91E9-A2DDA7A3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167-5CE5-49FB-8E5C-70854E33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F0B-9480-4A60-BD34-DE55F7B1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F69-3247-4F73-B6AE-A833D2EA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560-9876-4FB4-91EA-A62BA443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D7E-50DF-4C77-A134-C72EAABB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17C-A281-468F-B809-3B037D01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164-4A12-4EA0-AEB9-BFBAEF8A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258-76CC-4E44-A27F-A87553BA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DD7-316A-489E-B501-A6EEB84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767-57CF-401A-ABDE-A271B04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552-886E-467B-BCCA-5DCDF91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8DB5-1A01-46E9-9716-52116BFA1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ervicescomputing.org/" TargetMode="External"/><Relationship Id="rId2" Type="http://schemas.openxmlformats.org/officeDocument/2006/relationships/hyperlink" Target="http://www.service-architecture.com/" TargetMode="Externa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Architectures and SO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1447560"/>
            <a:ext cx="6858000" cy="480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enterprise archite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based technical architecture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eb technologies fit into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CGI to components to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-Oriented architectures (SOA) and Web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ervice-Oriented architectures (patter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6400800"/>
            <a:ext cx="20872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jad  Um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62520" y="2514600"/>
            <a:ext cx="1676160" cy="175248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1752480"/>
              <a:gd name="textAreaBottom" fmla="*/ 1670760 h 1752480"/>
            </a:gdLst>
            <a:ahLst/>
            <a:rect l="textAreaLeft" t="textAreaTop" r="textAreaRight" b="textAreaBottom"/>
            <a:pathLst>
              <a:path w="21600" h="22583">
                <a:moveTo>
                  <a:pt x="3600" y="0"/>
                </a:moveTo>
                <a:arcTo wR="3600" hR="3600" stAng="16200000" swAng="-5400000"/>
                <a:lnTo>
                  <a:pt x="0" y="18983"/>
                </a:lnTo>
                <a:arcTo wR="3600" hR="3600" stAng="10800000" swAng="-5400000"/>
                <a:lnTo>
                  <a:pt x="18000" y="22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Static Applica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31240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3360" y="317484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33360" y="26528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55400" y="173844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99320" y="1814400"/>
            <a:ext cx="663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914400"/>
            <a:ext cx="457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16002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5909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/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4920" y="2819520"/>
            <a:ext cx="847440" cy="6987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5791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Access Through Java Apple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95360" y="2228760"/>
            <a:ext cx="1685880" cy="19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91040" y="2401920"/>
            <a:ext cx="1623960" cy="247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7720" y="2119320"/>
            <a:ext cx="1685880" cy="112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2743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59320" y="2717640"/>
            <a:ext cx="96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09680" y="21956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8040" y="2438280"/>
            <a:ext cx="1073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31720" y="128124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5280" y="1357200"/>
            <a:ext cx="663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8600" y="455760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26840" y="2576520"/>
            <a:ext cx="847440" cy="6987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121932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409720" y="1676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3505320"/>
            <a:ext cx="137160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440" y="3962520"/>
            <a:ext cx="11134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4038480"/>
            <a:ext cx="144792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9528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5181480"/>
            <a:ext cx="1219320" cy="9144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10040" y="42051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2255760"/>
            <a:ext cx="2133720" cy="399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3429000"/>
            <a:ext cx="1576440" cy="130860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GI, Servle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s, AS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5146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07040" y="235116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57040" y="18288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51880" y="2209680"/>
            <a:ext cx="1073160" cy="1003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080" y="137160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8280" y="1371600"/>
            <a:ext cx="663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74560" y="2209680"/>
            <a:ext cx="847440" cy="6987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297180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89680" y="4800600"/>
            <a:ext cx="139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8200" y="378288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BC/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3733920"/>
            <a:ext cx="1752480" cy="15238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320" y="1981080"/>
            <a:ext cx="10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Web-Gateway (Server Side) App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1752480"/>
            <a:ext cx="1828800" cy="13716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39080" y="3808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4267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2057400"/>
            <a:ext cx="175248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3230640"/>
            <a:ext cx="1271520" cy="130860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le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,AS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2860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09480" y="16304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0" y="2011320"/>
            <a:ext cx="1144440" cy="130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600" y="1173240"/>
            <a:ext cx="801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1371600"/>
            <a:ext cx="1524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Web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1040" y="2133720"/>
            <a:ext cx="847440" cy="6987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793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4952880"/>
            <a:ext cx="1752480" cy="10670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45820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Enterprise Components (Business Componen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362320"/>
            <a:ext cx="2133720" cy="2286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order process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ntory control,,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2057400"/>
            <a:ext cx="1752840" cy="2838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1523880"/>
            <a:ext cx="1905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Business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4320" y="1523880"/>
            <a:ext cx="190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Enterpris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839080" y="152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 and Business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s based on Business Components can possibly lead to re-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compon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 self-contained piece of software that has a well defined interface and can be developed, delivered, installed, and run independent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a component must have the following proper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4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onent is built so that it can be easily combined and composed with other components for enterprise need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4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onent has a socket as a software for interface with the infrastructur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provide services and are the foundation of Service-Oriented Architectures (SOA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-228960"/>
            <a:ext cx="8915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-Oriented Architectures (SOA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businesses provide a set of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ervices are provided to the customers (B2C), some to other businesses (B2B) and some to the employees (B2E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provide marketing, sales, customer support,  and many other services (some are customer facing, some are supplier facing, and some are employee management fac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f these services can be provided by other service providers (outsourcing agencies, business partners, etc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sk of the enterprise management is to find the best service providers (SPs) to run the fi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any can change its business by adding new services from new S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wired telephone company can add a wireless service provi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rvice bundles” can be created by different SPs to meet user needs and to compete for user busines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nies may add, delete, change and merge SPs that provide the best services to compe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View of SO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458200" cy="4986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92280" y="1249200"/>
            <a:ext cx="3041640" cy="3170520"/>
          </a:xfrm>
          <a:custGeom>
            <a:avLst/>
            <a:gdLst/>
            <a:ahLst/>
            <a:rect l="l" t="t" r="r" b="b"/>
            <a:pathLst>
              <a:path w="2042" h="2081">
                <a:moveTo>
                  <a:pt x="507" y="211"/>
                </a:moveTo>
                <a:cubicBezTo>
                  <a:pt x="456" y="244"/>
                  <a:pt x="513" y="202"/>
                  <a:pt x="460" y="273"/>
                </a:cubicBezTo>
                <a:cubicBezTo>
                  <a:pt x="77" y="790"/>
                  <a:pt x="309" y="438"/>
                  <a:pt x="86" y="787"/>
                </a:cubicBezTo>
                <a:cubicBezTo>
                  <a:pt x="58" y="886"/>
                  <a:pt x="36" y="951"/>
                  <a:pt x="24" y="1052"/>
                </a:cubicBezTo>
                <a:cubicBezTo>
                  <a:pt x="12" y="1153"/>
                  <a:pt x="21" y="1256"/>
                  <a:pt x="0" y="1356"/>
                </a:cubicBezTo>
                <a:cubicBezTo>
                  <a:pt x="22" y="1409"/>
                  <a:pt x="26" y="1398"/>
                  <a:pt x="71" y="1426"/>
                </a:cubicBezTo>
                <a:cubicBezTo>
                  <a:pt x="97" y="1468"/>
                  <a:pt x="125" y="1506"/>
                  <a:pt x="156" y="1543"/>
                </a:cubicBezTo>
                <a:cubicBezTo>
                  <a:pt x="181" y="1573"/>
                  <a:pt x="219" y="1589"/>
                  <a:pt x="242" y="1621"/>
                </a:cubicBezTo>
                <a:cubicBezTo>
                  <a:pt x="261" y="1648"/>
                  <a:pt x="254" y="1660"/>
                  <a:pt x="281" y="1683"/>
                </a:cubicBezTo>
                <a:cubicBezTo>
                  <a:pt x="315" y="1712"/>
                  <a:pt x="369" y="1696"/>
                  <a:pt x="413" y="1699"/>
                </a:cubicBezTo>
                <a:cubicBezTo>
                  <a:pt x="436" y="1707"/>
                  <a:pt x="492" y="1743"/>
                  <a:pt x="515" y="1746"/>
                </a:cubicBezTo>
                <a:cubicBezTo>
                  <a:pt x="561" y="1752"/>
                  <a:pt x="608" y="1751"/>
                  <a:pt x="655" y="1754"/>
                </a:cubicBezTo>
                <a:cubicBezTo>
                  <a:pt x="692" y="1761"/>
                  <a:pt x="711" y="1765"/>
                  <a:pt x="741" y="1785"/>
                </a:cubicBezTo>
                <a:cubicBezTo>
                  <a:pt x="794" y="1857"/>
                  <a:pt x="871" y="1867"/>
                  <a:pt x="951" y="1894"/>
                </a:cubicBezTo>
                <a:cubicBezTo>
                  <a:pt x="960" y="1897"/>
                  <a:pt x="965" y="1906"/>
                  <a:pt x="974" y="1909"/>
                </a:cubicBezTo>
                <a:cubicBezTo>
                  <a:pt x="1013" y="1925"/>
                  <a:pt x="1058" y="1941"/>
                  <a:pt x="1099" y="1948"/>
                </a:cubicBezTo>
                <a:cubicBezTo>
                  <a:pt x="1164" y="1991"/>
                  <a:pt x="1196" y="1975"/>
                  <a:pt x="1294" y="1980"/>
                </a:cubicBezTo>
                <a:cubicBezTo>
                  <a:pt x="1343" y="2053"/>
                  <a:pt x="1367" y="2068"/>
                  <a:pt x="1458" y="2081"/>
                </a:cubicBezTo>
                <a:cubicBezTo>
                  <a:pt x="1492" y="2078"/>
                  <a:pt x="1526" y="2079"/>
                  <a:pt x="1559" y="2073"/>
                </a:cubicBezTo>
                <a:cubicBezTo>
                  <a:pt x="1567" y="2071"/>
                  <a:pt x="1627" y="2035"/>
                  <a:pt x="1629" y="2034"/>
                </a:cubicBezTo>
                <a:cubicBezTo>
                  <a:pt x="1684" y="2007"/>
                  <a:pt x="1736" y="2000"/>
                  <a:pt x="1769" y="1941"/>
                </a:cubicBezTo>
                <a:cubicBezTo>
                  <a:pt x="1818" y="1853"/>
                  <a:pt x="1827" y="1751"/>
                  <a:pt x="1886" y="1668"/>
                </a:cubicBezTo>
                <a:cubicBezTo>
                  <a:pt x="1910" y="1634"/>
                  <a:pt x="1914" y="1649"/>
                  <a:pt x="1949" y="1621"/>
                </a:cubicBezTo>
                <a:cubicBezTo>
                  <a:pt x="1981" y="1596"/>
                  <a:pt x="2019" y="1561"/>
                  <a:pt x="2042" y="1528"/>
                </a:cubicBezTo>
                <a:cubicBezTo>
                  <a:pt x="2009" y="1367"/>
                  <a:pt x="2027" y="1373"/>
                  <a:pt x="2003" y="1138"/>
                </a:cubicBezTo>
                <a:cubicBezTo>
                  <a:pt x="2001" y="1118"/>
                  <a:pt x="1986" y="1102"/>
                  <a:pt x="1980" y="1083"/>
                </a:cubicBezTo>
                <a:cubicBezTo>
                  <a:pt x="1985" y="984"/>
                  <a:pt x="1988" y="886"/>
                  <a:pt x="1995" y="787"/>
                </a:cubicBezTo>
                <a:cubicBezTo>
                  <a:pt x="2005" y="646"/>
                  <a:pt x="2021" y="605"/>
                  <a:pt x="1956" y="475"/>
                </a:cubicBezTo>
                <a:cubicBezTo>
                  <a:pt x="1944" y="451"/>
                  <a:pt x="1934" y="398"/>
                  <a:pt x="1910" y="382"/>
                </a:cubicBezTo>
                <a:cubicBezTo>
                  <a:pt x="1889" y="368"/>
                  <a:pt x="1862" y="368"/>
                  <a:pt x="1839" y="359"/>
                </a:cubicBezTo>
                <a:cubicBezTo>
                  <a:pt x="1797" y="315"/>
                  <a:pt x="1747" y="318"/>
                  <a:pt x="1691" y="304"/>
                </a:cubicBezTo>
                <a:cubicBezTo>
                  <a:pt x="1628" y="272"/>
                  <a:pt x="1581" y="226"/>
                  <a:pt x="1512" y="203"/>
                </a:cubicBezTo>
                <a:cubicBezTo>
                  <a:pt x="1466" y="170"/>
                  <a:pt x="1425" y="130"/>
                  <a:pt x="1372" y="109"/>
                </a:cubicBezTo>
                <a:cubicBezTo>
                  <a:pt x="1263" y="65"/>
                  <a:pt x="1148" y="39"/>
                  <a:pt x="1037" y="0"/>
                </a:cubicBezTo>
                <a:cubicBezTo>
                  <a:pt x="981" y="29"/>
                  <a:pt x="928" y="85"/>
                  <a:pt x="865" y="101"/>
                </a:cubicBezTo>
                <a:cubicBezTo>
                  <a:pt x="760" y="127"/>
                  <a:pt x="648" y="121"/>
                  <a:pt x="546" y="156"/>
                </a:cubicBezTo>
                <a:cubicBezTo>
                  <a:pt x="538" y="153"/>
                  <a:pt x="529" y="144"/>
                  <a:pt x="522" y="148"/>
                </a:cubicBezTo>
                <a:cubicBezTo>
                  <a:pt x="517" y="151"/>
                  <a:pt x="507" y="202"/>
                  <a:pt x="507" y="211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2819520"/>
            <a:ext cx="1143000" cy="1066680"/>
          </a:xfrm>
          <a:prstGeom prst="plus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3352680"/>
            <a:ext cx="1143000" cy="1067040"/>
          </a:xfrm>
          <a:prstGeom prst="plus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1981080"/>
            <a:ext cx="1143000" cy="1067040"/>
          </a:xfrm>
          <a:prstGeom prst="plus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648320"/>
            <a:ext cx="7467840" cy="1447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4419720"/>
            <a:ext cx="144792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4419720"/>
            <a:ext cx="129528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4419720"/>
            <a:ext cx="129528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4419720"/>
            <a:ext cx="129564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5240" y="5334120"/>
            <a:ext cx="156924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3352680"/>
            <a:ext cx="1143000" cy="1067040"/>
          </a:xfrm>
          <a:prstGeom prst="plus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3429000"/>
            <a:ext cx="1143000" cy="1066680"/>
          </a:xfrm>
          <a:prstGeom prst="plus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0040" y="37339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0000" y="23623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08600" y="36576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1120" y="36576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9360" y="4572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6760" y="46483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8200" y="47242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31000" y="14619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nularities of Components – provide different levels of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01120" y="1828800"/>
            <a:ext cx="3684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enterpris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31880" y="3048120"/>
            <a:ext cx="30549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5960" y="4267080"/>
            <a:ext cx="2884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5720" y="5562720"/>
            <a:ext cx="2937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236232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76920" y="35812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48006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23880" y="581184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86200" y="5811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-based Application Architectures - View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2265480"/>
            <a:ext cx="1886040" cy="1955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2362320"/>
            <a:ext cx="1904760" cy="193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86040" y="2514600"/>
            <a:ext cx="1641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mpon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5840" y="2743200"/>
            <a:ext cx="1266480" cy="8204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29718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29718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7000" y="355428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mpon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0" y="1905120"/>
            <a:ext cx="16002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mpon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they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hey interact/interfa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types of architectures: database, network, business, etc. How do they fit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architecture (very popular term): a vertical view 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architecture plus technology architecture for a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business, applications and IT infrastructure components into a solution for custom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Architecture  (Horizontal View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xist at several levels in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pp architectures of individual apps (e.g., departmental invent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-wide app architectures (e.g., ER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enterprise (B2B) app  architectures (e.g., SCMs, emark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focus: enterprise and inter-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986200" y="5811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2800" y="609480"/>
            <a:ext cx="1478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Logic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286000"/>
            <a:ext cx="1676160" cy="40528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(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 log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erpr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ic (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on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6600" y="1371600"/>
            <a:ext cx="1523880" cy="1066680"/>
          </a:xfrm>
          <a:prstGeom prst="can">
            <a:avLst>
              <a:gd name="adj" fmla="val 25000"/>
            </a:avLst>
          </a:prstGeom>
          <a:solidFill>
            <a:srgbClr val="0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32004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24480" y="2057400"/>
            <a:ext cx="838440" cy="228600"/>
          </a:xfrm>
          <a:prstGeom prst="leftRightArrow">
            <a:avLst>
              <a:gd name="adj1" fmla="val 50000"/>
              <a:gd name="adj2" fmla="val 730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0"/>
            <a:ext cx="807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-based Application Architectures  - View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67480" y="4876920"/>
            <a:ext cx="1676520" cy="1752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Databas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33960" y="7621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2666880"/>
            <a:ext cx="1219320" cy="990720"/>
          </a:xfrm>
          <a:prstGeom prst="flowChartAlternate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7800" y="304812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6960" y="762120"/>
            <a:ext cx="24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esentation)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1828800"/>
            <a:ext cx="1447560" cy="44956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5291280" y="4858200"/>
            <a:ext cx="2052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erver (Back-end Integ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312408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927360" cy="603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01760" cy="5032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0" y="1981080"/>
            <a:ext cx="731880" cy="574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152280" y="4648320"/>
            <a:ext cx="601920" cy="25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600200" y="2209680"/>
            <a:ext cx="1752480" cy="35053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ront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4038480"/>
            <a:ext cx="1219320" cy="152640"/>
          </a:xfrm>
          <a:prstGeom prst="leftRightArrow">
            <a:avLst>
              <a:gd name="adj1" fmla="val 50000"/>
              <a:gd name="adj2" fmla="val 1590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4648320"/>
            <a:ext cx="1067040" cy="152280"/>
          </a:xfrm>
          <a:prstGeom prst="leftRightArrow">
            <a:avLst>
              <a:gd name="adj1" fmla="val 50000"/>
              <a:gd name="adj2" fmla="val 13949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2133720"/>
            <a:ext cx="2743200" cy="152280"/>
          </a:xfrm>
          <a:prstGeom prst="leftRightArrow">
            <a:avLst>
              <a:gd name="adj1" fmla="val 50000"/>
              <a:gd name="adj2" fmla="val 35861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3124080"/>
            <a:ext cx="1219320" cy="152640"/>
          </a:xfrm>
          <a:prstGeom prst="leftRightArrow">
            <a:avLst>
              <a:gd name="adj1" fmla="val 50000"/>
              <a:gd name="adj2" fmla="val 1590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381240" cy="7430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38080" y="533412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5105520"/>
            <a:ext cx="685800" cy="304560"/>
          </a:xfrm>
          <a:prstGeom prst="leftRightArrow">
            <a:avLst>
              <a:gd name="adj1" fmla="val 50000"/>
              <a:gd name="adj2" fmla="val 4482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001000" y="3657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914400"/>
            <a:ext cx="15228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8640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-304920" y="51055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-based App Architectures - View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0880" y="4910040"/>
            <a:ext cx="2108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600200"/>
            <a:ext cx="2514600" cy="4419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981080"/>
            <a:ext cx="1720800" cy="349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1460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1960" y="685800"/>
            <a:ext cx="61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71800" y="1523880"/>
            <a:ext cx="13716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2440" y="609480"/>
            <a:ext cx="742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19320" y="1600200"/>
            <a:ext cx="0" cy="3809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8880" y="1447920"/>
            <a:ext cx="1676520" cy="4038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rpo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685800"/>
            <a:ext cx="993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20" y="2743200"/>
            <a:ext cx="1149120" cy="81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Non-W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95000" y="609480"/>
            <a:ext cx="1123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50292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8280" y="3352680"/>
            <a:ext cx="1249920" cy="637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8280" y="4800600"/>
            <a:ext cx="1249920" cy="637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1828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9160" y="556272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800" y="60580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10240" y="5560920"/>
            <a:ext cx="12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16280" y="59436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89512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1320" y="220968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40" y="1752480"/>
            <a:ext cx="1140120" cy="81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ppl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02120" y="3505320"/>
            <a:ext cx="1140120" cy="81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ppl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03200" y="4648320"/>
            <a:ext cx="1149120" cy="81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Non-W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76840" y="2209680"/>
            <a:ext cx="1249920" cy="911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rv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53160" y="3429000"/>
            <a:ext cx="1249920" cy="911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ndations of SO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ic Requirements for S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 must be developed as a set of services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s and components must be as general purpose as pos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s must have well-defined interfac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 and their components must use Internet communic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 must be able to interwork with other Applicati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itional characteristics of SOA 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 must be scaleable and porta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n client model should be favour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 Providers should use standard Internet serve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ype of technology can support SOA: Web Servic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b services and Componen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Foundation of SO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3818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e a Service -- WS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-304920" y="1219320"/>
          <a:ext cx="9601200" cy="61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601200" cy="61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DI Defin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0" y="754200"/>
          <a:ext cx="91440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54200"/>
                    <a:ext cx="91440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Message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0" y="2011320"/>
          <a:ext cx="9144000" cy="43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1320"/>
                    <a:ext cx="91440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Messa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0" y="1219320"/>
          <a:ext cx="9372600" cy="60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37260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s in W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4582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WS and Coal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822240"/>
            <a:ext cx="7467480" cy="57373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4952880"/>
            <a:ext cx="6553080" cy="1643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Services (Layer 1-4 of O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2520"/>
            <a:ext cx="6553080" cy="1371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" y="-11397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833400"/>
            <a:ext cx="21337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com 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.g. Provisio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680" y="730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52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757080"/>
            <a:ext cx="2209680" cy="6098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Vertical 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RP, Finan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1442880"/>
            <a:ext cx="403884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 BPs (Marketingt, CRM, 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828800"/>
            <a:ext cx="6553080" cy="1371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286000"/>
            <a:ext cx="1905120" cy="3808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com O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905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2286000"/>
            <a:ext cx="2286000" cy="3808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Vertical 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743200"/>
            <a:ext cx="44197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 Apps: (ERPs  for CRM, HR,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276720"/>
            <a:ext cx="6553080" cy="1676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3733920"/>
            <a:ext cx="259056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bile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AP, J2ME, BREW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352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and Middlewar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733920"/>
            <a:ext cx="274320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ized Services (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B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4343400"/>
            <a:ext cx="563904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 Middleware (Web, Web 2.0, Web services ,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410080"/>
            <a:ext cx="19051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ANs, MA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5410080"/>
            <a:ext cx="221004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G Cellular, WLA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ANs,  WLL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s, MANE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5562720"/>
            <a:ext cx="1295280" cy="99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ver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457200"/>
            <a:ext cx="1676520" cy="6159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757080"/>
            <a:ext cx="1828800" cy="6098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care 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linica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133720"/>
            <a:ext cx="182880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ca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HC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-152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685800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-2861280" y="3222000"/>
            <a:ext cx="6324480" cy="9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ical Integ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6858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izontal  Integ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33520"/>
            <a:ext cx="75960" cy="5943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WS and AS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914400" y="1987560"/>
            <a:ext cx="7315200" cy="48704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P Mod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3024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AS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85800" y="1353960"/>
            <a:ext cx="7010280" cy="56041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Chec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nd privacy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oS and Reli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Taxonomies and Business Choreograph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evelopments attempting to address these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Times New Roman"/>
              </a:rPr>
              <a:t>Key Points 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at deal of activity in building solutio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architecture is a good framework for translating business strategies to solutions that can be u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technologies are playing a key 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-based architectures are gaining pop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atic methodology is nee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additional inform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BM System Journal, Service-Oriented Architecture special issue,   Volume  44, Number 4, 2005. This is a really good issue. It has many good articl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EEE Computer Society Technical Committee on Services Computing - 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ervicescomputing.or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is is a very good website on SOA inform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k: “Service-Oriented Architecture (SOA) Compass: Business Value, Planning, and Enterprise Roadmap", By Norbert Bieberstein et al, IBM Press, Oct 200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ry, D., "Web Services and Service-Oriented Architectures: The Savvy Manager's Guide", Morgan Kaufmann, 200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A Portal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ervice-architectur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. Of ACM, Special Issue on Service Oriented Computing, Oct. 200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3809880"/>
            <a:ext cx="5067360" cy="2052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Technolog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ast Ethernet, Token Ring, Wireless LANs, Satellit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Local Loops, FDDI, AT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 Relay, X.25, FDDI, and many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und 100 Mbps and mor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65720" y="3244680"/>
            <a:ext cx="245916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ly IPv4, Future 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1828800"/>
            <a:ext cx="5105520" cy="14716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y Divers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: FTP, email, Rlogin, Web Advertising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Commerce, CRM, ERPs, SCM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/Video: VOIP, video conferencing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ware,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4114800"/>
            <a:ext cx="2286000" cy="1600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Technolog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low dialup and X.2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und 300 bp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8680" y="3321000"/>
            <a:ext cx="191520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2057400"/>
            <a:ext cx="2209680" cy="1324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TP, email, Rlogi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2819520"/>
            <a:ext cx="1143000" cy="1447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8360" y="60580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Circa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3400" y="60958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Circa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800600" y="1066680"/>
            <a:ext cx="4343400" cy="5639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990720"/>
            <a:ext cx="4495680" cy="5715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880" y="5410080"/>
            <a:ext cx="14479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1600200"/>
            <a:ext cx="358128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vels of Solution Archite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1828800"/>
            <a:ext cx="152388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1905120"/>
            <a:ext cx="152424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2895480"/>
            <a:ext cx="152388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479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6665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5562720"/>
            <a:ext cx="38088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562720"/>
            <a:ext cx="38124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6095880"/>
            <a:ext cx="38124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5867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142640" y="5867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5486400"/>
            <a:ext cx="14479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95480" y="5638680"/>
            <a:ext cx="38124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5638680"/>
            <a:ext cx="38088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6172200"/>
            <a:ext cx="38088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943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504960" y="5943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0360" y="99072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 Solution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1200" y="4343400"/>
            <a:ext cx="14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4400" y="4419720"/>
            <a:ext cx="14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447920" y="4114800"/>
            <a:ext cx="76176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438280" y="4114800"/>
            <a:ext cx="60984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5410080"/>
            <a:ext cx="14475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1676520"/>
            <a:ext cx="358164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86400" y="1905120"/>
            <a:ext cx="1523880" cy="99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91520" y="1981080"/>
            <a:ext cx="152388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24480" y="2971800"/>
            <a:ext cx="152424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2438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6197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5562720"/>
            <a:ext cx="38088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5562720"/>
            <a:ext cx="38088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4120" y="6095880"/>
            <a:ext cx="38088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5867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5638320" y="5867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38880" y="5486400"/>
            <a:ext cx="14479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5638680"/>
            <a:ext cx="38088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53280" y="5638680"/>
            <a:ext cx="38124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96080" y="6172200"/>
            <a:ext cx="38124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7724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0120" y="5943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8000640" y="5943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26920" y="1219320"/>
            <a:ext cx="35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 Solution 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99520" y="4343400"/>
            <a:ext cx="14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92120" y="4419720"/>
            <a:ext cx="14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943600" y="4114800"/>
            <a:ext cx="762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6934320" y="41148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19720" y="289548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48320" y="91440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533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al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038480" y="1523880"/>
            <a:ext cx="381240" cy="271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1600200"/>
            <a:ext cx="380880" cy="271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2920" y="4986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33600" y="609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00400" y="5181480"/>
            <a:ext cx="27432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 Chain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43200" y="4114800"/>
            <a:ext cx="37339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erprise Resource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istics  Production 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4876920"/>
            <a:ext cx="38088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257800" y="4800600"/>
            <a:ext cx="3808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0400" y="1066680"/>
            <a:ext cx="27432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ling Chain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2133720"/>
            <a:ext cx="37339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ing  Sales  Service 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 Relationship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38280" y="6095880"/>
            <a:ext cx="434340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ners, Suppliers, Distributors, Rese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5053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486400" y="5791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14600" y="533520"/>
            <a:ext cx="434340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s, Rese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04812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77320" y="304812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3124080"/>
            <a:ext cx="12952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24080"/>
            <a:ext cx="12952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19520" y="3048120"/>
            <a:ext cx="12952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3048120"/>
            <a:ext cx="12952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505320" y="17521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114800" y="1752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8006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5562720" y="16765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19112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578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066680" y="32763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1066680" y="36572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286000" y="28191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6552720" y="2742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6552720" y="4038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2285640" y="426672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629400" y="41144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3352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27672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79132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812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053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35268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79132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79246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9246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0"/>
            <a:ext cx="239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gh Level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315200" y="380880"/>
            <a:ext cx="1523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al hos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5715000"/>
            <a:ext cx="175284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-Market outsour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86600" y="1371600"/>
            <a:ext cx="20574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sourc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 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4267080"/>
            <a:ext cx="236232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P  &amp;SC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sour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1143000"/>
            <a:ext cx="304920" cy="152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144792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752480"/>
            <a:ext cx="3049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llers/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137160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16765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dquarter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ny 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934320" y="60948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53080" y="21337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00800" y="4495680"/>
            <a:ext cx="304920" cy="228600"/>
          </a:xfrm>
          <a:prstGeom prst="leftArrow">
            <a:avLst>
              <a:gd name="adj1" fmla="val 50000"/>
              <a:gd name="adj2" fmla="val 3334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5715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5257800"/>
            <a:ext cx="762120" cy="15228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siness Architect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A Set of Busines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816120"/>
            <a:ext cx="830592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638680" y="2743200"/>
            <a:ext cx="1219320" cy="274320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00" y="511020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33560" y="5110200"/>
            <a:ext cx="306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Translation into a Solution Architectu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33920" y="1371600"/>
            <a:ext cx="16128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57600" y="533520"/>
            <a:ext cx="205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T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ew Business Logic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2200" y="1447920"/>
            <a:ext cx="710280" cy="5756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3000" y="1523880"/>
            <a:ext cx="2878200" cy="152640"/>
          </a:xfrm>
          <a:prstGeom prst="leftRightArrow">
            <a:avLst>
              <a:gd name="adj1" fmla="val 50000"/>
              <a:gd name="adj2" fmla="val 37537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00800" y="1752480"/>
            <a:ext cx="2657520" cy="1219320"/>
          </a:xfrm>
          <a:prstGeom prst="wedgeRoundRectCallout">
            <a:avLst>
              <a:gd name="adj1" fmla="val -51013"/>
              <a:gd name="adj2" fmla="val 68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I platform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-end ap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(known) 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ng network (B2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0" y="4876920"/>
            <a:ext cx="3886200" cy="1828800"/>
          </a:xfrm>
          <a:prstGeom prst="wedgeRoundRectCallout">
            <a:avLst>
              <a:gd name="adj1" fmla="val 21402"/>
              <a:gd name="adj2" fmla="val 69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rot="10800000">
            <a:no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nt-end integration supports di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ices and applications such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bile devices such as PDAs, palm pi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P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browser with Java app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on a variety of plat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86600" y="3352680"/>
            <a:ext cx="1066680" cy="8384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R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2666880"/>
            <a:ext cx="682920" cy="332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3276720"/>
            <a:ext cx="1066680" cy="332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29200" y="2819520"/>
            <a:ext cx="1049400" cy="152280"/>
          </a:xfrm>
          <a:prstGeom prst="leftRightArrow">
            <a:avLst>
              <a:gd name="adj1" fmla="val 50000"/>
              <a:gd name="adj2" fmla="val 1371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05520" y="4343400"/>
            <a:ext cx="761760" cy="152280"/>
          </a:xfrm>
          <a:prstGeom prst="leftRightArrow">
            <a:avLst>
              <a:gd name="adj1" fmla="val 50000"/>
              <a:gd name="adj2" fmla="val 9958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77120" y="3429000"/>
            <a:ext cx="645840" cy="152280"/>
          </a:xfrm>
          <a:prstGeom prst="leftRightArrow">
            <a:avLst>
              <a:gd name="adj1" fmla="val 50000"/>
              <a:gd name="adj2" fmla="val 844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05720" y="48006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5572080" y="4427280"/>
            <a:ext cx="1373400" cy="59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9880" y="4114800"/>
            <a:ext cx="1295640" cy="5756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Selling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43800" y="4572000"/>
            <a:ext cx="1066680" cy="685800"/>
          </a:xfrm>
          <a:prstGeom prst="rect">
            <a:avLst/>
          </a:prstGeom>
          <a:solidFill>
            <a:srgbClr val="790015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9320" y="39243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1800" y="3352680"/>
            <a:ext cx="990720" cy="152640"/>
          </a:xfrm>
          <a:prstGeom prst="leftRightArrow">
            <a:avLst>
              <a:gd name="adj1" fmla="val 50000"/>
              <a:gd name="adj2" fmla="val 12921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00400" y="4191120"/>
            <a:ext cx="533520" cy="152280"/>
          </a:xfrm>
          <a:prstGeom prst="leftRightArrow">
            <a:avLst>
              <a:gd name="adj1" fmla="val 50000"/>
              <a:gd name="adj2" fmla="val 697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4120" y="3505320"/>
            <a:ext cx="685800" cy="152280"/>
          </a:xfrm>
          <a:prstGeom prst="leftRightArrow">
            <a:avLst>
              <a:gd name="adj1" fmla="val 50000"/>
              <a:gd name="adj2" fmla="val 8965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927000" cy="6030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401400" cy="5032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731880" cy="5745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457200" y="2209680"/>
            <a:ext cx="601560" cy="2541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523880" y="1905120"/>
            <a:ext cx="1752840" cy="266688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22860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380988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43000" y="304812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48320" y="5486400"/>
            <a:ext cx="2209680" cy="762120"/>
          </a:xfrm>
          <a:custGeom>
            <a:avLst/>
            <a:gdLst/>
            <a:ahLst/>
            <a:rect l="l" t="t" r="r" b="b"/>
            <a:pathLst>
              <a:path w="1392" h="551">
                <a:moveTo>
                  <a:pt x="32" y="160"/>
                </a:moveTo>
                <a:cubicBezTo>
                  <a:pt x="21" y="221"/>
                  <a:pt x="2" y="282"/>
                  <a:pt x="0" y="344"/>
                </a:cubicBezTo>
                <a:cubicBezTo>
                  <a:pt x="0" y="355"/>
                  <a:pt x="14" y="362"/>
                  <a:pt x="24" y="368"/>
                </a:cubicBezTo>
                <a:cubicBezTo>
                  <a:pt x="58" y="388"/>
                  <a:pt x="113" y="398"/>
                  <a:pt x="152" y="408"/>
                </a:cubicBezTo>
                <a:cubicBezTo>
                  <a:pt x="215" y="471"/>
                  <a:pt x="178" y="453"/>
                  <a:pt x="264" y="464"/>
                </a:cubicBezTo>
                <a:cubicBezTo>
                  <a:pt x="326" y="485"/>
                  <a:pt x="383" y="497"/>
                  <a:pt x="448" y="504"/>
                </a:cubicBezTo>
                <a:cubicBezTo>
                  <a:pt x="635" y="551"/>
                  <a:pt x="840" y="515"/>
                  <a:pt x="1024" y="512"/>
                </a:cubicBezTo>
                <a:cubicBezTo>
                  <a:pt x="1049" y="504"/>
                  <a:pt x="1081" y="501"/>
                  <a:pt x="1104" y="488"/>
                </a:cubicBezTo>
                <a:cubicBezTo>
                  <a:pt x="1167" y="453"/>
                  <a:pt x="1222" y="402"/>
                  <a:pt x="1272" y="352"/>
                </a:cubicBezTo>
                <a:cubicBezTo>
                  <a:pt x="1295" y="329"/>
                  <a:pt x="1326" y="309"/>
                  <a:pt x="1344" y="280"/>
                </a:cubicBezTo>
                <a:cubicBezTo>
                  <a:pt x="1376" y="228"/>
                  <a:pt x="1378" y="218"/>
                  <a:pt x="1392" y="176"/>
                </a:cubicBezTo>
                <a:cubicBezTo>
                  <a:pt x="1389" y="147"/>
                  <a:pt x="1390" y="117"/>
                  <a:pt x="1384" y="88"/>
                </a:cubicBezTo>
                <a:cubicBezTo>
                  <a:pt x="1375" y="47"/>
                  <a:pt x="1301" y="52"/>
                  <a:pt x="1272" y="48"/>
                </a:cubicBezTo>
                <a:cubicBezTo>
                  <a:pt x="1225" y="32"/>
                  <a:pt x="1184" y="20"/>
                  <a:pt x="1136" y="8"/>
                </a:cubicBezTo>
                <a:cubicBezTo>
                  <a:pt x="1125" y="5"/>
                  <a:pt x="1104" y="0"/>
                  <a:pt x="1104" y="0"/>
                </a:cubicBezTo>
                <a:cubicBezTo>
                  <a:pt x="894" y="7"/>
                  <a:pt x="759" y="14"/>
                  <a:pt x="544" y="8"/>
                </a:cubicBezTo>
                <a:cubicBezTo>
                  <a:pt x="327" y="15"/>
                  <a:pt x="309" y="4"/>
                  <a:pt x="152" y="56"/>
                </a:cubicBezTo>
                <a:cubicBezTo>
                  <a:pt x="123" y="85"/>
                  <a:pt x="94" y="107"/>
                  <a:pt x="56" y="120"/>
                </a:cubicBezTo>
                <a:cubicBezTo>
                  <a:pt x="46" y="150"/>
                  <a:pt x="26" y="162"/>
                  <a:pt x="16" y="192"/>
                </a:cubicBezTo>
                <a:cubicBezTo>
                  <a:pt x="30" y="234"/>
                  <a:pt x="23" y="224"/>
                  <a:pt x="32" y="16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89080" y="5699880"/>
            <a:ext cx="1791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ng Netwo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098600" y="5185440"/>
            <a:ext cx="113580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r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48120" y="5871240"/>
            <a:ext cx="80820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0600" y="6252120"/>
            <a:ext cx="175248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6858000" y="5485680"/>
            <a:ext cx="2286000" cy="1066680"/>
          </a:xfrm>
          <a:prstGeom prst="wedgeEllipseCallout">
            <a:avLst>
              <a:gd name="adj1" fmla="val -57226"/>
              <a:gd name="adj2" fmla="val 2112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rot="10800000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10560" y="5531040"/>
            <a:ext cx="22334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ng network invol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to network (B2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ies with eMar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AS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1360" y="54756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77120" y="582480"/>
            <a:ext cx="2171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ck-end/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s and Databas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743200"/>
            <a:ext cx="1049040" cy="152280"/>
          </a:xfrm>
          <a:prstGeom prst="leftRightArrow">
            <a:avLst>
              <a:gd name="adj1" fmla="val 50000"/>
              <a:gd name="adj2" fmla="val 13714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32640" y="1143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, 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5160" y="36576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4120" y="18813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848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51200" y="35193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83640" y="3048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6640" y="380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3276720"/>
            <a:ext cx="9296280" cy="2895480"/>
          </a:xfrm>
          <a:prstGeom prst="leftRightArrow">
            <a:avLst>
              <a:gd name="adj1" fmla="val 50000"/>
              <a:gd name="adj2" fmla="val 63915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 Key Characteristic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6396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63961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 Adapter/Data Map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5105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200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9840" y="5943600"/>
            <a:ext cx="7491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5840" y="5943600"/>
            <a:ext cx="7491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4267080"/>
            <a:ext cx="42670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Hub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4343400"/>
            <a:ext cx="236196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, Security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471760" y="52110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9625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124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9625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3124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40240" y="2971800"/>
            <a:ext cx="74916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11440" y="2971800"/>
            <a:ext cx="74916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7560" y="3048120"/>
            <a:ext cx="74916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48120"/>
            <a:ext cx="127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 (ES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5791320"/>
            <a:ext cx="7617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5791320"/>
            <a:ext cx="7617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3429000"/>
            <a:ext cx="762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3352680"/>
            <a:ext cx="7617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352680"/>
            <a:ext cx="7617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6564240"/>
            <a:ext cx="6094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39625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48320" y="5180760"/>
            <a:ext cx="304560" cy="351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60" y="533520"/>
            <a:ext cx="934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Reusable Component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mportant to decompose business applications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components (BCs) in such a fashion so that as many components as possi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general purpose (i.e., reusable) and as few as possible  are special purpo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Web-Services Enablemen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onents must have well defined service interfa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can be stored in a directory so that service clients can query an interface direct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over and invoke the needed service providers (SPs) over the Internet (http)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nterprise Service Bus (ESB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osely coupl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ddleware infrastruc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used for communications, brokerage, security, directory &amp; administration servi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0360" y="646128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ervice 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Build Enterprise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“business archite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logical application architectur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enterpris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s betwee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: does not show any technical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e into techn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olutio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chite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:  does include infrastructure  considerations (networks, middlew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apps and database to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, security, flexibility, Q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638680" y="2743200"/>
            <a:ext cx="1219320" cy="274320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00" y="511020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33560" y="5110200"/>
            <a:ext cx="306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Translation into a Solution Architectu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1371600"/>
            <a:ext cx="16128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533520"/>
            <a:ext cx="205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T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ew Business Logic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2200" y="1447920"/>
            <a:ext cx="710280" cy="5756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523880"/>
            <a:ext cx="2878200" cy="152640"/>
          </a:xfrm>
          <a:prstGeom prst="leftRightArrow">
            <a:avLst>
              <a:gd name="adj1" fmla="val 50000"/>
              <a:gd name="adj2" fmla="val 37537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752480"/>
            <a:ext cx="2657520" cy="1219320"/>
          </a:xfrm>
          <a:prstGeom prst="wedgeRoundRectCallout">
            <a:avLst>
              <a:gd name="adj1" fmla="val -51013"/>
              <a:gd name="adj2" fmla="val 68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I platform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-end ap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(known) 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ng network (B2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6320" y="4876920"/>
            <a:ext cx="3504960" cy="1828800"/>
          </a:xfrm>
          <a:prstGeom prst="wedgeRoundRectCallout">
            <a:avLst>
              <a:gd name="adj1" fmla="val 18476"/>
              <a:gd name="adj2" fmla="val 69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rot="10800000">
            <a:no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nt-end integration supports di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ices and applications such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bile devices such as PDAs, palm pi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P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browser with Java app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on a variety of plat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352680"/>
            <a:ext cx="1066680" cy="8384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R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666880"/>
            <a:ext cx="682920" cy="332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276720"/>
            <a:ext cx="1066680" cy="332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819520"/>
            <a:ext cx="1049400" cy="152280"/>
          </a:xfrm>
          <a:prstGeom prst="leftRightArrow">
            <a:avLst>
              <a:gd name="adj1" fmla="val 50000"/>
              <a:gd name="adj2" fmla="val 1371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343400"/>
            <a:ext cx="761760" cy="152280"/>
          </a:xfrm>
          <a:prstGeom prst="leftRightArrow">
            <a:avLst>
              <a:gd name="adj1" fmla="val 50000"/>
              <a:gd name="adj2" fmla="val 9958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3429000"/>
            <a:ext cx="645840" cy="152280"/>
          </a:xfrm>
          <a:prstGeom prst="leftRightArrow">
            <a:avLst>
              <a:gd name="adj1" fmla="val 50000"/>
              <a:gd name="adj2" fmla="val 844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8006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5572080" y="4427280"/>
            <a:ext cx="1373400" cy="59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114800"/>
            <a:ext cx="1295640" cy="5756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Selling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1066680" cy="685800"/>
          </a:xfrm>
          <a:prstGeom prst="rect">
            <a:avLst/>
          </a:prstGeom>
          <a:solidFill>
            <a:srgbClr val="790015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39243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352680"/>
            <a:ext cx="990720" cy="152640"/>
          </a:xfrm>
          <a:prstGeom prst="leftRightArrow">
            <a:avLst>
              <a:gd name="adj1" fmla="val 50000"/>
              <a:gd name="adj2" fmla="val 12921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4191120"/>
            <a:ext cx="533520" cy="152280"/>
          </a:xfrm>
          <a:prstGeom prst="leftRightArrow">
            <a:avLst>
              <a:gd name="adj1" fmla="val 50000"/>
              <a:gd name="adj2" fmla="val 697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3505320"/>
            <a:ext cx="685800" cy="152280"/>
          </a:xfrm>
          <a:prstGeom prst="leftRightArrow">
            <a:avLst>
              <a:gd name="adj1" fmla="val 50000"/>
              <a:gd name="adj2" fmla="val 8965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927000" cy="60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401400" cy="50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731880" cy="574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57200" y="2209680"/>
            <a:ext cx="601560" cy="254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905120"/>
            <a:ext cx="1752840" cy="266688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2860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988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04812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486400"/>
            <a:ext cx="2209680" cy="762120"/>
          </a:xfrm>
          <a:custGeom>
            <a:avLst/>
            <a:gdLst/>
            <a:ahLst/>
            <a:rect l="l" t="t" r="r" b="b"/>
            <a:pathLst>
              <a:path w="1392" h="551">
                <a:moveTo>
                  <a:pt x="32" y="160"/>
                </a:moveTo>
                <a:cubicBezTo>
                  <a:pt x="21" y="221"/>
                  <a:pt x="2" y="282"/>
                  <a:pt x="0" y="344"/>
                </a:cubicBezTo>
                <a:cubicBezTo>
                  <a:pt x="0" y="355"/>
                  <a:pt x="14" y="362"/>
                  <a:pt x="24" y="368"/>
                </a:cubicBezTo>
                <a:cubicBezTo>
                  <a:pt x="58" y="388"/>
                  <a:pt x="113" y="398"/>
                  <a:pt x="152" y="408"/>
                </a:cubicBezTo>
                <a:cubicBezTo>
                  <a:pt x="215" y="471"/>
                  <a:pt x="178" y="453"/>
                  <a:pt x="264" y="464"/>
                </a:cubicBezTo>
                <a:cubicBezTo>
                  <a:pt x="326" y="485"/>
                  <a:pt x="383" y="497"/>
                  <a:pt x="448" y="504"/>
                </a:cubicBezTo>
                <a:cubicBezTo>
                  <a:pt x="635" y="551"/>
                  <a:pt x="840" y="515"/>
                  <a:pt x="1024" y="512"/>
                </a:cubicBezTo>
                <a:cubicBezTo>
                  <a:pt x="1049" y="504"/>
                  <a:pt x="1081" y="501"/>
                  <a:pt x="1104" y="488"/>
                </a:cubicBezTo>
                <a:cubicBezTo>
                  <a:pt x="1167" y="453"/>
                  <a:pt x="1222" y="402"/>
                  <a:pt x="1272" y="352"/>
                </a:cubicBezTo>
                <a:cubicBezTo>
                  <a:pt x="1295" y="329"/>
                  <a:pt x="1326" y="309"/>
                  <a:pt x="1344" y="280"/>
                </a:cubicBezTo>
                <a:cubicBezTo>
                  <a:pt x="1376" y="228"/>
                  <a:pt x="1378" y="218"/>
                  <a:pt x="1392" y="176"/>
                </a:cubicBezTo>
                <a:cubicBezTo>
                  <a:pt x="1389" y="147"/>
                  <a:pt x="1390" y="117"/>
                  <a:pt x="1384" y="88"/>
                </a:cubicBezTo>
                <a:cubicBezTo>
                  <a:pt x="1375" y="47"/>
                  <a:pt x="1301" y="52"/>
                  <a:pt x="1272" y="48"/>
                </a:cubicBezTo>
                <a:cubicBezTo>
                  <a:pt x="1225" y="32"/>
                  <a:pt x="1184" y="20"/>
                  <a:pt x="1136" y="8"/>
                </a:cubicBezTo>
                <a:cubicBezTo>
                  <a:pt x="1125" y="5"/>
                  <a:pt x="1104" y="0"/>
                  <a:pt x="1104" y="0"/>
                </a:cubicBezTo>
                <a:cubicBezTo>
                  <a:pt x="894" y="7"/>
                  <a:pt x="759" y="14"/>
                  <a:pt x="544" y="8"/>
                </a:cubicBezTo>
                <a:cubicBezTo>
                  <a:pt x="327" y="15"/>
                  <a:pt x="309" y="4"/>
                  <a:pt x="152" y="56"/>
                </a:cubicBezTo>
                <a:cubicBezTo>
                  <a:pt x="123" y="85"/>
                  <a:pt x="94" y="107"/>
                  <a:pt x="56" y="120"/>
                </a:cubicBezTo>
                <a:cubicBezTo>
                  <a:pt x="46" y="150"/>
                  <a:pt x="26" y="162"/>
                  <a:pt x="16" y="192"/>
                </a:cubicBezTo>
                <a:cubicBezTo>
                  <a:pt x="30" y="234"/>
                  <a:pt x="23" y="224"/>
                  <a:pt x="32" y="16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89080" y="5699880"/>
            <a:ext cx="1791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ng Netwo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98600" y="5185440"/>
            <a:ext cx="113580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r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48120" y="5871240"/>
            <a:ext cx="80820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6099480"/>
            <a:ext cx="1752840" cy="47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5485680"/>
            <a:ext cx="2286000" cy="1066680"/>
          </a:xfrm>
          <a:prstGeom prst="wedgeEllipseCallout">
            <a:avLst>
              <a:gd name="adj1" fmla="val -57226"/>
              <a:gd name="adj2" fmla="val 2112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 rot="10800000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10560" y="5531040"/>
            <a:ext cx="22334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ng network invol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to network (B2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ies with eMar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AS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360" y="54756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82480"/>
            <a:ext cx="2171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ck-end/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s and Databas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743200"/>
            <a:ext cx="1049040" cy="152280"/>
          </a:xfrm>
          <a:prstGeom prst="leftRightArrow">
            <a:avLst>
              <a:gd name="adj1" fmla="val 50000"/>
              <a:gd name="adj2" fmla="val 13714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2640" y="1143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, 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5160" y="36576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4120" y="18813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848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51200" y="35193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3640" y="3048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6640" y="380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(Technical) Architectures -- A Closer 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228600" y="762120"/>
            <a:ext cx="9139320" cy="63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versus bad archite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architectures are largely web-ba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y used depends on the type/complexity of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Simple client-side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HTML/XML for web advertising or use Java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access a remote database through a JDBC interf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mall to medium scale web database apps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I, servlets, JSPs, etc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Distributed object 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use CORBA, DCOM, SOAP/XML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Component-based enterprise wide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mbed business logic as compon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Service-oriented Architectures (SO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ology Assess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57240" y="914400"/>
            <a:ext cx="4876920" cy="51814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48600" y="1447920"/>
            <a:ext cx="1686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/X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10400" y="2514600"/>
            <a:ext cx="212724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Gatew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GI, Servlet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 Pag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11480" y="3886200"/>
            <a:ext cx="23248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RBA, D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1160" y="5181480"/>
            <a:ext cx="20307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onent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50600" y="1447920"/>
            <a:ext cx="156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68720" y="274320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 to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al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9160" y="4091040"/>
            <a:ext cx="30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um scale 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 web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1080" y="4876920"/>
            <a:ext cx="402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 scale enterprise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components, databa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71960" y="914400"/>
            <a:ext cx="304920" cy="5257800"/>
          </a:xfrm>
          <a:prstGeom prst="downArrow">
            <a:avLst>
              <a:gd name="adj1" fmla="val 50000"/>
              <a:gd name="adj2" fmla="val 4310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55760" y="304920"/>
            <a:ext cx="178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bustne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use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2600" y="4800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57240" y="38098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2514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2360" y="3538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Applica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25000" y="914400"/>
            <a:ext cx="304560" cy="5257800"/>
          </a:xfrm>
          <a:prstGeom prst="downArrow">
            <a:avLst>
              <a:gd name="adj1" fmla="val 50000"/>
              <a:gd name="adj2" fmla="val 43159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40640" y="0"/>
            <a:ext cx="15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x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footpr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4600" y="228600"/>
            <a:ext cx="159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57240" y="4038480"/>
            <a:ext cx="9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8T23:06:32Z</dcterms:created>
  <dc:creator>umar</dc:creator>
  <dc:description/>
  <dc:language>en-US</dc:language>
  <cp:lastModifiedBy>aumar</cp:lastModifiedBy>
  <cp:lastPrinted>2001-02-21T15:53:36Z</cp:lastPrinted>
  <dcterms:modified xsi:type="dcterms:W3CDTF">2009-07-20T04:10:03Z</dcterms:modified>
  <cp:revision>240</cp:revision>
  <dc:subject/>
  <dc:title>No Slide Title</dc:title>
</cp:coreProperties>
</file>