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384E-2E6F-4215-A077-484402400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882720" y="433872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of this study was not to be exhaustive, but to look at some of the more influential activities and get a feel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ight be available that would benefit or provide constraints on an enterprise integration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cond consideration is to identify relevant prior work that could provide guidance or warnings for our own develop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9B0-5151-44A2-B24B-4DC3E9E2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B20C-799D-476C-A12F-8672AEC6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754-0AA3-467E-8F2A-45902C5E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F31-41A1-4D74-A20E-4BD1965C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A822-91A5-413C-9A4A-CCB183D7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E99-1791-40D7-843D-7BD778EF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CAC-6BF0-4DF6-8494-188C6BC5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AABD-7385-4F93-BEAA-451F9BB5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2152-6296-4D67-B45E-DE56C79A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19A-00D3-4EBE-AF87-99DDDBC1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735B-0AF3-4AEE-8802-94A72486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F57-6764-4269-A3DD-C5B527BF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: A. Um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ACD4-0C48-40EB-A414-E3D1784ED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ibco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8001000" cy="2076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2B Trade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ly Chain Management and Extended Enterpr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3200400"/>
            <a:ext cx="7315200" cy="274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21360" y="3657600"/>
            <a:ext cx="47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Agen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2B Examples &amp;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2B Technologies (Lite &amp; Heavy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2B Standards &amp; Case Studi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20840" y="3809880"/>
            <a:ext cx="201132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809880"/>
            <a:ext cx="67053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1371600"/>
            <a:ext cx="76320" cy="5257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160" y="3886200"/>
            <a:ext cx="113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mber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47040" y="3886200"/>
            <a:ext cx="113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lum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86560" y="339084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71800" y="59054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44800" y="3276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69280" y="3276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63960" y="1523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80160" y="1066680"/>
            <a:ext cx="113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70360" y="0"/>
            <a:ext cx="3748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Model of B2B Tr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48320" y="2327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99080" y="6172200"/>
            <a:ext cx="1795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t" anchorCtr="1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of 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67080" y="3124080"/>
            <a:ext cx="137160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2438280"/>
            <a:ext cx="5410080" cy="2895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5320" y="72216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mensions driv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B integration Solu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7080" y="4913280"/>
            <a:ext cx="25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dimens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ies cro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of tru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ervices and SOA  ESB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-609480" y="898560"/>
            <a:ext cx="10058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48240" y="3908520"/>
            <a:ext cx="380880" cy="152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0"/>
            <a:ext cx="7848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B2B Integration: The Big Picture (SOA) 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1112760"/>
            <a:ext cx="2314800" cy="2514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1112760"/>
            <a:ext cx="22017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"/>
              </a:rPr>
              <a:t>Compan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494000"/>
            <a:ext cx="635040" cy="56988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7400" y="347508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1360" y="3908520"/>
            <a:ext cx="380880" cy="152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10560" y="3908520"/>
            <a:ext cx="380880" cy="152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5791320"/>
            <a:ext cx="381240" cy="152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2960" y="571176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Adapter/Connector for B2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8680" y="2432160"/>
            <a:ext cx="2133360" cy="228600"/>
          </a:xfrm>
          <a:prstGeom prst="leftRightArrow">
            <a:avLst>
              <a:gd name="adj1" fmla="val 50000"/>
              <a:gd name="adj2" fmla="val 185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5029200"/>
            <a:ext cx="636480" cy="63504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42640" y="513252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Private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1417680"/>
            <a:ext cx="636840" cy="63504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2027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2027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941560"/>
            <a:ext cx="904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71480" y="520848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Public Proces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4191120"/>
            <a:ext cx="8915400" cy="761760"/>
          </a:xfrm>
          <a:prstGeom prst="leftRightArrow">
            <a:avLst>
              <a:gd name="adj1" fmla="val 50000"/>
              <a:gd name="adj2" fmla="val 23299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53640" y="4389480"/>
            <a:ext cx="24318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B2B Integration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153280" y="1417680"/>
            <a:ext cx="636840" cy="63504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4582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58200" y="202716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305920" y="3886200"/>
            <a:ext cx="380880" cy="152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5151600"/>
            <a:ext cx="904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62000" y="2637000"/>
            <a:ext cx="190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1189080"/>
            <a:ext cx="2314440" cy="2514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895480" y="1189080"/>
            <a:ext cx="22021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"/>
              </a:rPr>
              <a:t>Compan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1569960"/>
            <a:ext cx="635040" cy="56988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95560" y="2508120"/>
            <a:ext cx="2133720" cy="228600"/>
          </a:xfrm>
          <a:prstGeom prst="leftRightArrow">
            <a:avLst>
              <a:gd name="adj1" fmla="val 50000"/>
              <a:gd name="adj2" fmla="val 1858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91120" y="1494000"/>
            <a:ext cx="636480" cy="63468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103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81280" y="2103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3017880"/>
            <a:ext cx="9050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29240" y="2712960"/>
            <a:ext cx="1908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4120" y="1189080"/>
            <a:ext cx="2314440" cy="2514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1189080"/>
            <a:ext cx="22021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"/>
              </a:rPr>
              <a:t>Company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91320" y="1569960"/>
            <a:ext cx="635040" cy="56988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10160" y="2508120"/>
            <a:ext cx="2133720" cy="228600"/>
          </a:xfrm>
          <a:prstGeom prst="leftRightArrow">
            <a:avLst>
              <a:gd name="adj1" fmla="val 50000"/>
              <a:gd name="adj2" fmla="val 1858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05720" y="1494000"/>
            <a:ext cx="636480" cy="63468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2103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5880" y="2103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29400" y="3017880"/>
            <a:ext cx="9050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43840" y="2712960"/>
            <a:ext cx="1908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924680" y="2865600"/>
            <a:ext cx="9050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67480" y="1112760"/>
            <a:ext cx="22021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"/>
              </a:rPr>
              <a:t>Company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35514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86600" y="3475080"/>
            <a:ext cx="44280" cy="755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7772400" cy="1470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2B Trade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ing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s in B2B Tra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 of information (e.g., purchase or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reography” between business partners (e.g., what happens if order cannot be fulfil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mechanism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sely coupled: email, FTP, MOM, Pub/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ly coupled: HTTP (get, Post), SOAP-RP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2B Techn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4267080"/>
            <a:ext cx="6477120" cy="685800"/>
          </a:xfrm>
          <a:prstGeom prst="rightArrow">
            <a:avLst>
              <a:gd name="adj1" fmla="val 50000"/>
              <a:gd name="adj2" fmla="val 23611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flow Managemen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6120" y="53352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2B-In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78040" y="609480"/>
            <a:ext cx="184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2B-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upply Cha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74240" y="609480"/>
            <a:ext cx="204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2B-Intermedi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Mark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3733920"/>
            <a:ext cx="7848720" cy="533160"/>
          </a:xfrm>
          <a:prstGeom prst="rightArrow">
            <a:avLst>
              <a:gd name="adj1" fmla="val 50000"/>
              <a:gd name="adj2" fmla="val 368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876920"/>
            <a:ext cx="6477120" cy="609480"/>
          </a:xfrm>
          <a:prstGeom prst="rightArrow">
            <a:avLst>
              <a:gd name="adj1" fmla="val 50000"/>
              <a:gd name="adj2" fmla="val 2656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prise Service Bus (B2B)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2819520"/>
            <a:ext cx="1752480" cy="838080"/>
          </a:xfrm>
          <a:prstGeom prst="leftRightArrow">
            <a:avLst>
              <a:gd name="adj1" fmla="val 50000"/>
              <a:gd name="adj2" fmla="val 4162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981080"/>
            <a:ext cx="1295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182880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10280" y="21337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238880" y="32767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77320" y="26668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2209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81080" y="2819520"/>
            <a:ext cx="44960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53080" y="2590920"/>
            <a:ext cx="15242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11430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2286000"/>
            <a:ext cx="152280" cy="152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2666880"/>
            <a:ext cx="152280" cy="152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23880" y="2286000"/>
            <a:ext cx="152640" cy="152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1295280"/>
            <a:ext cx="152280" cy="152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30400" y="114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4640" y="30481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51360" y="144792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/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33920" y="2133720"/>
            <a:ext cx="152280" cy="152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267080" y="2057400"/>
            <a:ext cx="152640" cy="152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5638680"/>
            <a:ext cx="7848360" cy="533520"/>
          </a:xfrm>
          <a:prstGeom prst="rightArrow">
            <a:avLst>
              <a:gd name="adj1" fmla="val 50000"/>
              <a:gd name="adj2" fmla="val 36776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and Securit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for Technology Selection (Based on B2B 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80880" y="914400"/>
          <a:ext cx="8229600" cy="5327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pters Need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B serv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ity and Network Servi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of part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Low: email-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High: workf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vy use of X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: Web-services enabled EAI platform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: Fast and robust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ctio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: secure adap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: secure serv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: secure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: efficient adap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: efficient serv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: efficient networ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: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nda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tional: trade iss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tional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: private and public proce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: strong authent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-B2B Industry Standard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industry standards and interest groups are developing standards for B2B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t c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 companies are behind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: smooth trade without too many transl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300320" y="3476520"/>
            <a:ext cx="1285560" cy="703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781680" y="3200400"/>
            <a:ext cx="1600200" cy="1008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14600" y="358128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661480" y="3276720"/>
            <a:ext cx="23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eed 35 compute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54400" y="5153040"/>
            <a:ext cx="1212480" cy="703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ppin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97680" y="5457960"/>
            <a:ext cx="2207520" cy="703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ntory Mana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5762520"/>
            <a:ext cx="3139920" cy="6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4086360"/>
            <a:ext cx="388620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54040" y="6143760"/>
            <a:ext cx="1086120" cy="703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286000" y="6067440"/>
            <a:ext cx="358128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0" y="4162320"/>
            <a:ext cx="7632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895480" y="3962520"/>
            <a:ext cx="3810240" cy="14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2437920" y="4162320"/>
            <a:ext cx="4419720" cy="213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666520" y="3733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492440" y="3657600"/>
            <a:ext cx="17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ave only 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XML (www.ebxml.org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2280" y="1219320"/>
            <a:ext cx="1676520" cy="50292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057400" y="1523880"/>
            <a:ext cx="2971800" cy="457200"/>
          </a:xfrm>
          <a:prstGeom prst="rightArrow">
            <a:avLst>
              <a:gd name="adj1" fmla="val 50000"/>
              <a:gd name="adj2" fmla="val 9253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38280" y="1219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is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09680" y="3429000"/>
            <a:ext cx="5562720" cy="457200"/>
          </a:xfrm>
          <a:prstGeom prst="rightArrow">
            <a:avLst>
              <a:gd name="adj1" fmla="val 50000"/>
              <a:gd name="adj2" fmla="val 17321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33720" y="5410080"/>
            <a:ext cx="5715000" cy="457200"/>
          </a:xfrm>
          <a:prstGeom prst="leftRightArrow">
            <a:avLst>
              <a:gd name="adj1" fmla="val 50000"/>
              <a:gd name="adj2" fmla="val 22222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90920" y="51055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Conduct business through eb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32004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ropose a business arran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772400" y="990720"/>
            <a:ext cx="1371600" cy="558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0800000">
            <a:off x="6476760" y="1295280"/>
            <a:ext cx="1066680" cy="457200"/>
          </a:xfrm>
          <a:prstGeom prst="rightArrow">
            <a:avLst>
              <a:gd name="adj1" fmla="val 44444"/>
              <a:gd name="adj2" fmla="val 3807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324480" y="990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905120" y="2286000"/>
            <a:ext cx="57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Indicate desire to do bus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1905120" y="2514240"/>
            <a:ext cx="5867280" cy="457200"/>
          </a:xfrm>
          <a:prstGeom prst="rightArrow">
            <a:avLst>
              <a:gd name="adj1" fmla="val 44444"/>
              <a:gd name="adj2" fmla="val 20942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57400" y="4191120"/>
            <a:ext cx="57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Indicate agreement to do bus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10800000">
            <a:off x="1828800" y="4419720"/>
            <a:ext cx="5867280" cy="457200"/>
          </a:xfrm>
          <a:prstGeom prst="rightArrow">
            <a:avLst>
              <a:gd name="adj1" fmla="val 44444"/>
              <a:gd name="adj2" fmla="val 20942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990720"/>
            <a:ext cx="1295280" cy="121896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b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s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2B Platfor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ide range of B2B platforms are becoming commercially avail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P e-speak (www.hp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cle exchange (www.oracleexchange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MQ Family (www.INM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B ESB platforms (e.g.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tibc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ww.vitria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banet platform (www.ariba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rceone platform (www.commerceone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end is to extend ESB to B2B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INESS-TO-BUSINESS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ON OF PURCHASE, SALE TRANSACTIONS FROM BUSINESS TO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2B 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B e-marketplaces (e.g., Automotive Supplier Exchange Networ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 relationship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Enter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B + Remote Hosting (Outsourcing, Renting Through ASPs, Remote Staffing,,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" dur="1" fill="hold"/>
                                  <p:tgtEl>
                                    <p:spTgt spid="5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  <p:animClr clrSpc="rgb">
                                <p:cBhvr>
                                  <p:cTn id="45" dur="1" fill="hold"/>
                                  <p:tgtEl>
                                    <p:spTgt spid="5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ervices as EAI Platfor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-609480" y="898560"/>
            <a:ext cx="10058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4548240" y="3908520"/>
            <a:ext cx="380880" cy="152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0"/>
            <a:ext cx="7848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B2B Integration: The Big Picture 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52280" y="1112760"/>
            <a:ext cx="2314800" cy="2514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1112760"/>
            <a:ext cx="22017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"/>
              </a:rPr>
              <a:t>Compan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494000"/>
            <a:ext cx="635040" cy="56988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057400" y="347508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81360" y="3908520"/>
            <a:ext cx="380880" cy="152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10560" y="3908520"/>
            <a:ext cx="380880" cy="152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5791320"/>
            <a:ext cx="381240" cy="152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12960" y="571176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Adapter/Connector for B2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8680" y="2432160"/>
            <a:ext cx="2133360" cy="228600"/>
          </a:xfrm>
          <a:prstGeom prst="leftRightArrow">
            <a:avLst>
              <a:gd name="adj1" fmla="val 50000"/>
              <a:gd name="adj2" fmla="val 185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5029200"/>
            <a:ext cx="636480" cy="63504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142640" y="513252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Private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523880" y="1417680"/>
            <a:ext cx="636840" cy="63504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752480" y="2027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14400" y="2027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47920" y="2941560"/>
            <a:ext cx="904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171480" y="520848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Public Proces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4191120"/>
            <a:ext cx="8915400" cy="761760"/>
          </a:xfrm>
          <a:prstGeom prst="leftRightArrow">
            <a:avLst>
              <a:gd name="adj1" fmla="val 50000"/>
              <a:gd name="adj2" fmla="val 23299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753640" y="4389480"/>
            <a:ext cx="24318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B2B Integration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153280" y="1417680"/>
            <a:ext cx="636840" cy="63504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4582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458200" y="202716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05920" y="3886200"/>
            <a:ext cx="380880" cy="152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34120" y="5151600"/>
            <a:ext cx="904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962000" y="2637000"/>
            <a:ext cx="190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819520" y="1189080"/>
            <a:ext cx="2314440" cy="2514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895480" y="1189080"/>
            <a:ext cx="22021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"/>
              </a:rPr>
              <a:t>Compan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76720" y="1569960"/>
            <a:ext cx="635040" cy="56988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95560" y="2508120"/>
            <a:ext cx="2133720" cy="228600"/>
          </a:xfrm>
          <a:prstGeom prst="leftRightArrow">
            <a:avLst>
              <a:gd name="adj1" fmla="val 50000"/>
              <a:gd name="adj2" fmla="val 1858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191120" y="1494000"/>
            <a:ext cx="636480" cy="63468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419720" y="2103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581280" y="2103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114800" y="3017880"/>
            <a:ext cx="9050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629240" y="2712960"/>
            <a:ext cx="1908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4120" y="1189080"/>
            <a:ext cx="2314440" cy="2514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10080" y="1189080"/>
            <a:ext cx="22021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"/>
              </a:rPr>
              <a:t>Company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1569960"/>
            <a:ext cx="635040" cy="56988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10160" y="2508120"/>
            <a:ext cx="2133720" cy="228600"/>
          </a:xfrm>
          <a:prstGeom prst="leftRightArrow">
            <a:avLst>
              <a:gd name="adj1" fmla="val 50000"/>
              <a:gd name="adj2" fmla="val 1858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05720" y="1494000"/>
            <a:ext cx="636480" cy="63468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34320" y="2103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95880" y="2103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629400" y="3017880"/>
            <a:ext cx="9050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143840" y="2712960"/>
            <a:ext cx="1908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924680" y="2865600"/>
            <a:ext cx="9050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467480" y="1112760"/>
            <a:ext cx="22021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"/>
              </a:rPr>
              <a:t>Company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724280" y="35514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86600" y="3475080"/>
            <a:ext cx="44280" cy="755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048120" y="100080"/>
            <a:ext cx="5486400" cy="31446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3276720" y="3359160"/>
            <a:ext cx="5333760" cy="34131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3040" y="1103400"/>
            <a:ext cx="26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Leve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 B2B Syste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-35280" y="4800600"/>
            <a:ext cx="30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Closer Look a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B Gatew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ding Com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294920" y="1828440"/>
            <a:ext cx="6782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B activities are evolv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an 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B S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B e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ty of enabling technolo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for B2B purcha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B Platforms are becoming commercial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onic Data Interchange (ED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in the 1960s to automate B2B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standards define formats for exchange of information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I X.12 committee for EDI-based order processing,  shipping and receiving, invoicing, and payment. Examples are purchase order (X 850), request for quotation (X 84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DIFACT, developed by the United Nations, is a set of standards that are similar, but not compatible, to the US-based ANSI X.12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s (e.g., GEIS) translate EDIFACT and X.1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ors (e.g., Sterling, Harbinger) convert data between business applications to EDI formats (e.g., extract  data in  Oracle database  and convert it to an EDI in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944640"/>
            <a:ext cx="3048120" cy="446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" y="4602240"/>
            <a:ext cx="2819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330660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2163600"/>
            <a:ext cx="2895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7680" y="4651200"/>
            <a:ext cx="20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ysical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9880" y="3432240"/>
            <a:ext cx="328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DI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Email, FTP, Point to Poi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, othe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31720" y="2365200"/>
            <a:ext cx="270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ANS X.12, EDIFA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6960" y="993600"/>
            <a:ext cx="237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DI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ayment, Bill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ntory, EFT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01320" y="231840"/>
            <a:ext cx="29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DI-Capable Comput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03640" y="231840"/>
            <a:ext cx="29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DI-Capable Comput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91320" y="792000"/>
            <a:ext cx="312408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867280" y="4449600"/>
            <a:ext cx="2819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315432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91320" y="2011320"/>
            <a:ext cx="289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18120" y="4498920"/>
            <a:ext cx="20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ysical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09960" y="3279600"/>
            <a:ext cx="328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DI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Email, FTP, Point to Poi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, othe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941800" y="2212920"/>
            <a:ext cx="270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ANS X.12, EDIFA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17400" y="841320"/>
            <a:ext cx="237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DI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ayment, Bill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ntory, EFT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81280" y="1554120"/>
            <a:ext cx="1676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81280" y="4525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40680" y="2787480"/>
            <a:ext cx="133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st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yers 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O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9164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191120" y="1782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1752480" y="5257800"/>
          <a:ext cx="57596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257800"/>
                    <a:ext cx="5759640" cy="1600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3794040" y="557676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data can be transported  by using mail, FTP,  or  We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practice: EDI applications on mainframes communicate over proprietary networks (e.g, SNA) using point-to-point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trend: PC or workstation EDI applications over IP networ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vendors providing EDI support (GEIS, IBM, Harbinger, Ster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over Internet. Overshadowed by X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Versus E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low Example of a Purchase Approv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33720" y="914400"/>
            <a:ext cx="25322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Approv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17880" y="1828800"/>
            <a:ext cx="1273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a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870520" y="3913200"/>
            <a:ext cx="1273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a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870160" y="5869080"/>
            <a:ext cx="180216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Corp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822040" y="5970600"/>
            <a:ext cx="13312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505320" y="23130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86000" y="1550880"/>
            <a:ext cx="2438280" cy="8384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 &lt;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132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28440" y="23274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00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2617920"/>
            <a:ext cx="2438640" cy="8380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 &lt;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400800" y="223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3505320" y="30751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400800" y="345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023720" y="25560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34120" y="4751280"/>
            <a:ext cx="2438280" cy="8384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 &lt;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3580920" y="51325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53080" y="429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100040" y="4537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61800" y="148896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478200" y="34560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859080" y="54370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553080" y="558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266720" y="627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85880" y="1627200"/>
            <a:ext cx="15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162200" y="3760920"/>
            <a:ext cx="15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low Management System- Conceptu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819520" y="777960"/>
            <a:ext cx="304776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Process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rocess Definition Too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209680" y="1996920"/>
            <a:ext cx="3886200" cy="1618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the process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orkflow Enactment Serv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32560" y="1920960"/>
            <a:ext cx="10159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708240" y="2301840"/>
            <a:ext cx="219528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ctment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343400" y="1523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67344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26827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248520" y="26827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62320" y="4130640"/>
            <a:ext cx="38862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flow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94520" y="4587840"/>
            <a:ext cx="138312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99280" y="4587840"/>
            <a:ext cx="138312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442600" y="2835360"/>
            <a:ext cx="1230840" cy="703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347720" y="2835360"/>
            <a:ext cx="1230840" cy="703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3886200" y="5486400"/>
            <a:ext cx="808200" cy="7621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228600" y="3521160"/>
            <a:ext cx="838080" cy="76176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6477120" y="701640"/>
            <a:ext cx="807840" cy="76212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149400" y="4255920"/>
            <a:ext cx="170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98800" y="5410080"/>
            <a:ext cx="123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467120" y="625320"/>
            <a:ext cx="114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30639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419720" y="5197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019920" y="10825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: Supply Chain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pply chain is a network of facilities and distribution op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of the chain may vary greatly from industry to industry and firm to firm.  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mall  vegetable store, it may be very simple  (buy the vegetables from farmers directly and sell them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national food store chain, it may be lar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scale  manufacturing  industries, the supply chain may involve dozens and even hundreds of partner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y chains typ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ed Goods SCM  (Retail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w materials SCM (Manufactur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Flow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49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: Automation of business processes - in whole or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involves several workers (e.g., purchase appro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: office automation, trend B2B tra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al challenges addressed by workflow management: </a:t>
            </a:r>
            <a:r>
              <a:rPr b="0" lang="en-US" sz="2000" spc="-1" strike="noStrike">
                <a:solidFill>
                  <a:srgbClr val="000000"/>
                </a:solidFill>
                <a:latin typeface="IBMHelveticaLigh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ng quickly to changing business needs and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ing key processes to optimiz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ing daily operations to ensure quality and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ing reusable parts of processes to save effort, time and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efine common business processes after mergers and acquis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ng each business process exactly as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ng applications on different platforms into a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ing compliance with standards (ISO 9000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ing processes in procedure manuals for staff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satile Gateway – Case Stud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920" y="2743200"/>
            <a:ext cx="1981080" cy="2133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AP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666880" y="2209680"/>
            <a:ext cx="1600200" cy="2895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441160" y="160020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atile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362320" y="1295280"/>
            <a:ext cx="7596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903040" y="2819520"/>
            <a:ext cx="110592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562720" y="1676520"/>
            <a:ext cx="12952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343400" y="236196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498560" y="182880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3200400"/>
            <a:ext cx="2286000" cy="2057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43400" y="4114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848720" y="3505320"/>
            <a:ext cx="12952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23888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10280" y="5486400"/>
            <a:ext cx="19051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495680" y="1219320"/>
            <a:ext cx="7632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343400" y="4648320"/>
            <a:ext cx="236232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24280" y="5791320"/>
            <a:ext cx="17528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343400" y="495288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755000" y="76212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040640" y="685800"/>
            <a:ext cx="10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83040" y="16002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774200" y="167652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e of Integration Plat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organization of project"/>
          <p:cNvPicPr/>
          <p:nvPr/>
        </p:nvPicPr>
        <p:blipFill>
          <a:blip r:embed="rId1"/>
          <a:stretch/>
        </p:blipFill>
        <p:spPr>
          <a:xfrm>
            <a:off x="-228600" y="1828800"/>
            <a:ext cx="937260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09480" y="1752480"/>
            <a:ext cx="2590920" cy="366012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usines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189440" y="92160"/>
            <a:ext cx="638748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Bd (Business to Business -Direct) - Supply Cha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osettane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21880" y="2975400"/>
            <a:ext cx="1087200" cy="47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45560" y="3661200"/>
            <a:ext cx="1087200" cy="47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9240" y="4423320"/>
            <a:ext cx="1087200" cy="47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867280" y="1752480"/>
            <a:ext cx="2667240" cy="366012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usines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0040" y="2823120"/>
            <a:ext cx="1087200" cy="47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222680" y="3584880"/>
            <a:ext cx="1087200" cy="47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146360" y="4347000"/>
            <a:ext cx="1087200" cy="47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81080" y="2542320"/>
            <a:ext cx="1209960" cy="236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/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12200" y="2454840"/>
            <a:ext cx="1472760" cy="2574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/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28195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3352320" y="35053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29000" y="487692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352320" y="43434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273840" y="2514240"/>
            <a:ext cx="25426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Send Request (place orde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87880" y="3200040"/>
            <a:ext cx="2525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Signal  Receipt of Requ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576960" y="4038120"/>
            <a:ext cx="1923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Fill Order Requ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483000" y="4571640"/>
            <a:ext cx="22546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 Signal  Receipt of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528920" y="6248520"/>
            <a:ext cx="54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B2B interactions based on Rosettanet P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762120"/>
            <a:ext cx="1279440" cy="10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41160" y="762120"/>
            <a:ext cx="1724400" cy="10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46880" y="1031760"/>
            <a:ext cx="183960" cy="39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762120"/>
            <a:ext cx="1295640" cy="10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76720" y="762120"/>
            <a:ext cx="1256760" cy="10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13716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295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352680"/>
            <a:ext cx="1676520" cy="10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43200" y="3402000"/>
            <a:ext cx="1256760" cy="10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920" y="3402000"/>
            <a:ext cx="1113480" cy="10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4038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3962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8200" y="5307120"/>
            <a:ext cx="1087560" cy="10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a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752480" y="4343040"/>
            <a:ext cx="5486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560" y="90360"/>
            <a:ext cx="54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) Manufacturing Supply Chain (example: D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2590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) Finished Goods Supply Chain (example: Sears, Amaz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981080"/>
            <a:ext cx="304920" cy="3812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77320" y="2133720"/>
            <a:ext cx="304560" cy="380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2960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84960" y="2008080"/>
            <a:ext cx="304920" cy="3812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37240" y="1855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2057400"/>
            <a:ext cx="304920" cy="380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560" y="15019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h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14479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Moth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0240" y="16542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mpu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11520" y="351936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th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17360" y="54244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685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3360" y="434880"/>
            <a:ext cx="148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340080" y="5356080"/>
            <a:ext cx="3594240" cy="1197000"/>
          </a:xfrm>
          <a:custGeom>
            <a:avLst/>
            <a:gdLst/>
            <a:ahLst/>
            <a:rect l="l" t="t" r="r" b="b"/>
            <a:pathLst>
              <a:path w="2361" h="888">
                <a:moveTo>
                  <a:pt x="31" y="250"/>
                </a:moveTo>
                <a:cubicBezTo>
                  <a:pt x="0" y="332"/>
                  <a:pt x="29" y="349"/>
                  <a:pt x="70" y="406"/>
                </a:cubicBezTo>
                <a:cubicBezTo>
                  <a:pt x="87" y="430"/>
                  <a:pt x="93" y="459"/>
                  <a:pt x="109" y="484"/>
                </a:cubicBezTo>
                <a:cubicBezTo>
                  <a:pt x="115" y="508"/>
                  <a:pt x="115" y="563"/>
                  <a:pt x="140" y="577"/>
                </a:cubicBezTo>
                <a:cubicBezTo>
                  <a:pt x="259" y="643"/>
                  <a:pt x="372" y="646"/>
                  <a:pt x="507" y="655"/>
                </a:cubicBezTo>
                <a:cubicBezTo>
                  <a:pt x="594" y="651"/>
                  <a:pt x="660" y="650"/>
                  <a:pt x="740" y="632"/>
                </a:cubicBezTo>
                <a:cubicBezTo>
                  <a:pt x="808" y="637"/>
                  <a:pt x="876" y="638"/>
                  <a:pt x="943" y="647"/>
                </a:cubicBezTo>
                <a:cubicBezTo>
                  <a:pt x="977" y="651"/>
                  <a:pt x="1040" y="712"/>
                  <a:pt x="1091" y="725"/>
                </a:cubicBezTo>
                <a:cubicBezTo>
                  <a:pt x="1326" y="888"/>
                  <a:pt x="1662" y="752"/>
                  <a:pt x="1948" y="749"/>
                </a:cubicBezTo>
                <a:cubicBezTo>
                  <a:pt x="2087" y="692"/>
                  <a:pt x="2186" y="589"/>
                  <a:pt x="2291" y="484"/>
                </a:cubicBezTo>
                <a:cubicBezTo>
                  <a:pt x="2313" y="431"/>
                  <a:pt x="2342" y="382"/>
                  <a:pt x="2361" y="328"/>
                </a:cubicBezTo>
                <a:cubicBezTo>
                  <a:pt x="2355" y="291"/>
                  <a:pt x="2330" y="230"/>
                  <a:pt x="2299" y="203"/>
                </a:cubicBezTo>
                <a:cubicBezTo>
                  <a:pt x="2250" y="162"/>
                  <a:pt x="2180" y="166"/>
                  <a:pt x="2120" y="156"/>
                </a:cubicBezTo>
                <a:cubicBezTo>
                  <a:pt x="2059" y="145"/>
                  <a:pt x="2008" y="115"/>
                  <a:pt x="1948" y="102"/>
                </a:cubicBezTo>
                <a:cubicBezTo>
                  <a:pt x="1838" y="78"/>
                  <a:pt x="1733" y="63"/>
                  <a:pt x="1621" y="55"/>
                </a:cubicBezTo>
                <a:cubicBezTo>
                  <a:pt x="1238" y="66"/>
                  <a:pt x="1437" y="32"/>
                  <a:pt x="1317" y="71"/>
                </a:cubicBezTo>
                <a:cubicBezTo>
                  <a:pt x="1301" y="76"/>
                  <a:pt x="1277" y="83"/>
                  <a:pt x="1262" y="86"/>
                </a:cubicBezTo>
                <a:cubicBezTo>
                  <a:pt x="1231" y="92"/>
                  <a:pt x="1169" y="102"/>
                  <a:pt x="1169" y="102"/>
                </a:cubicBezTo>
                <a:cubicBezTo>
                  <a:pt x="1133" y="99"/>
                  <a:pt x="1096" y="100"/>
                  <a:pt x="1060" y="94"/>
                </a:cubicBezTo>
                <a:cubicBezTo>
                  <a:pt x="1035" y="89"/>
                  <a:pt x="1029" y="61"/>
                  <a:pt x="1013" y="47"/>
                </a:cubicBezTo>
                <a:cubicBezTo>
                  <a:pt x="983" y="21"/>
                  <a:pt x="942" y="8"/>
                  <a:pt x="904" y="0"/>
                </a:cubicBezTo>
                <a:cubicBezTo>
                  <a:pt x="736" y="19"/>
                  <a:pt x="572" y="65"/>
                  <a:pt x="405" y="86"/>
                </a:cubicBezTo>
                <a:cubicBezTo>
                  <a:pt x="297" y="68"/>
                  <a:pt x="237" y="124"/>
                  <a:pt x="140" y="149"/>
                </a:cubicBezTo>
                <a:cubicBezTo>
                  <a:pt x="113" y="176"/>
                  <a:pt x="98" y="191"/>
                  <a:pt x="62" y="203"/>
                </a:cubicBezTo>
                <a:cubicBezTo>
                  <a:pt x="52" y="219"/>
                  <a:pt x="31" y="250"/>
                  <a:pt x="31" y="25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1031760"/>
            <a:ext cx="1843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13716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1371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1371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62920" y="1371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038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3962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981080" y="4343040"/>
            <a:ext cx="5257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080" y="4140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Old Supply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9680" y="2590920"/>
            <a:ext cx="28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New Supply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981080"/>
            <a:ext cx="304920" cy="3812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7320" y="2133720"/>
            <a:ext cx="304560" cy="380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2960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133720"/>
            <a:ext cx="304560" cy="380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2057400"/>
            <a:ext cx="304920" cy="380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2057400"/>
            <a:ext cx="304560" cy="380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5791320"/>
            <a:ext cx="609480" cy="533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5791320"/>
            <a:ext cx="609480" cy="533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03880" y="52992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609480"/>
            <a:ext cx="121932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609480"/>
            <a:ext cx="16002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609480"/>
            <a:ext cx="18288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609480"/>
            <a:ext cx="121932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609480"/>
            <a:ext cx="13716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3429000"/>
            <a:ext cx="17524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62920" y="3352680"/>
            <a:ext cx="17524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3276720"/>
            <a:ext cx="175248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5257800"/>
            <a:ext cx="17524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1295280"/>
            <a:ext cx="2590560" cy="366012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usines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83440" y="412560"/>
            <a:ext cx="33868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B Trade – High Level 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5560" y="2518200"/>
            <a:ext cx="1087200" cy="47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9240" y="3204000"/>
            <a:ext cx="1087200" cy="47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280" y="3966120"/>
            <a:ext cx="1087200" cy="47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1295280"/>
            <a:ext cx="2666880" cy="366012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94080" y="2365920"/>
            <a:ext cx="1087200" cy="47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46360" y="3127680"/>
            <a:ext cx="1087200" cy="47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70040" y="3889800"/>
            <a:ext cx="1087200" cy="47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30880" y="3123360"/>
            <a:ext cx="1558080" cy="47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/Proc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93400" y="3047040"/>
            <a:ext cx="1558080" cy="47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/Proc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76720" y="1447920"/>
          <a:ext cx="243828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447920"/>
                    <a:ext cx="2438280" cy="3504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488040" y="2666880"/>
            <a:ext cx="181260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Net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(private or publ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12920" y="585324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53320" y="5410080"/>
            <a:ext cx="65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processes are the key players in B2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manage B2B Information exchang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they hide private processes from external interactions (priva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990720"/>
            <a:ext cx="2590920" cy="366012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usines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1880" y="2213280"/>
            <a:ext cx="1087200" cy="47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5560" y="2899080"/>
            <a:ext cx="1087200" cy="47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9240" y="3661200"/>
            <a:ext cx="1087200" cy="47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990720"/>
            <a:ext cx="2667240" cy="366012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usines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70040" y="2061000"/>
            <a:ext cx="1087200" cy="47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22680" y="2823120"/>
            <a:ext cx="1087200" cy="47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46360" y="3584880"/>
            <a:ext cx="1087200" cy="47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80200"/>
            <a:ext cx="1209960" cy="236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/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12200" y="1693080"/>
            <a:ext cx="1472760" cy="2574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/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20574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352320" y="27432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29000" y="411480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352320" y="35812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3840" y="1752120"/>
            <a:ext cx="25426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Send Request (place orde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87880" y="2437920"/>
            <a:ext cx="2525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Signal  Receipt of Requ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76960" y="3276360"/>
            <a:ext cx="1923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Fill Order Requ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83000" y="3809520"/>
            <a:ext cx="22546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 Signal  Receipt of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400" y="5486400"/>
            <a:ext cx="83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B2B interactions based on Rosettanet  Standard (www.rosettanet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72920" y="304560"/>
            <a:ext cx="37191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B Processes – A Closer Loo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7924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2B Technical Architecture – General View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657600" y="1752480"/>
          <a:ext cx="1828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752480"/>
                    <a:ext cx="1828800" cy="3505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716640" y="3276720"/>
            <a:ext cx="1584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Public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514600"/>
            <a:ext cx="1904760" cy="55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2438280"/>
            <a:ext cx="1905120" cy="55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1143000"/>
            <a:ext cx="0" cy="403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1066680"/>
            <a:ext cx="76320" cy="426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191120"/>
            <a:ext cx="1371600" cy="838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blic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" y="999360"/>
            <a:ext cx="1539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599840" y="31240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181480" y="44956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5334120"/>
            <a:ext cx="1371600" cy="53316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y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urity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50292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334120"/>
            <a:ext cx="1371600" cy="53316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y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urity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29600" y="48006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42400" y="1065960"/>
            <a:ext cx="1539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5160" y="5363640"/>
            <a:ext cx="913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37560" y="5363640"/>
            <a:ext cx="913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129528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1295280"/>
            <a:ext cx="0" cy="419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7920" y="5439960"/>
            <a:ext cx="913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28120" y="5516280"/>
            <a:ext cx="913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61920" y="1318320"/>
            <a:ext cx="7275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M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19600" y="1370880"/>
            <a:ext cx="7275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M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72680" y="5942520"/>
            <a:ext cx="302724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MZ = Demilitarize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KI = Private Key 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NS = Domain Nam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97160" y="1163160"/>
            <a:ext cx="855720" cy="412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KI 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82440" y="4114440"/>
            <a:ext cx="20167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tual Private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11440" y="4190760"/>
            <a:ext cx="20167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tual Private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82800" y="4342680"/>
            <a:ext cx="768600" cy="412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83320" y="4423680"/>
            <a:ext cx="768600" cy="412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200400"/>
            <a:ext cx="838080" cy="685800"/>
          </a:xfrm>
          <a:prstGeom prst="can">
            <a:avLst>
              <a:gd name="adj" fmla="val 25000"/>
            </a:avLst>
          </a:prstGeom>
          <a:solidFill>
            <a:srgbClr val="00808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153280" y="3124080"/>
            <a:ext cx="838440" cy="685800"/>
          </a:xfrm>
          <a:prstGeom prst="can">
            <a:avLst>
              <a:gd name="adj" fmla="val 25000"/>
            </a:avLst>
          </a:prstGeom>
          <a:solidFill>
            <a:srgbClr val="00808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380988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848720" y="37339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238880" y="4114800"/>
            <a:ext cx="1371600" cy="838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blic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304920" y="54864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Scale Supply Chain 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8680" y="1881360"/>
            <a:ext cx="1227240" cy="1865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98520" y="2046240"/>
            <a:ext cx="1611360" cy="20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4648320"/>
            <a:ext cx="1720800" cy="174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-end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hopping ca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592280" y="2341440"/>
            <a:ext cx="750960" cy="36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53960" y="3316320"/>
            <a:ext cx="937440" cy="63756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4038480"/>
            <a:ext cx="2514600" cy="1505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77520" y="1849320"/>
            <a:ext cx="75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2225520"/>
            <a:ext cx="955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54400" y="1049400"/>
            <a:ext cx="993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64920" y="2212920"/>
            <a:ext cx="778680" cy="63756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2819520"/>
            <a:ext cx="0" cy="423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2800" y="990720"/>
            <a:ext cx="1071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666880" y="4038480"/>
            <a:ext cx="76320" cy="60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94000" y="3905280"/>
            <a:ext cx="3640320" cy="104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52280" y="59086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4419720"/>
            <a:ext cx="1447920" cy="1295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iztal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743200"/>
            <a:ext cx="1447920" cy="1295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533520"/>
            <a:ext cx="1447560" cy="1295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685800"/>
            <a:ext cx="1447560" cy="1295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2819520"/>
            <a:ext cx="1447920" cy="1295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10080" y="5257800"/>
            <a:ext cx="1447920" cy="1295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1752480"/>
            <a:ext cx="312408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ng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21880" y="48769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93480" y="43434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276720" y="24382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2209680"/>
            <a:ext cx="879480" cy="63756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43434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7:52:12Z</dcterms:created>
  <dc:creator>CBA</dc:creator>
  <dc:description/>
  <dc:language>en-US</dc:language>
  <cp:lastModifiedBy>aumar</cp:lastModifiedBy>
  <dcterms:modified xsi:type="dcterms:W3CDTF">2009-07-21T23:56:06Z</dcterms:modified>
  <cp:revision>112</cp:revision>
  <dc:subject/>
  <dc:title>Supply Chain Management</dc:title>
</cp:coreProperties>
</file>